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6195-6F03-497A-9430-03D02065FA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B9FC-568F-474E-8A54-B11A8C46B3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E65F-B36E-455A-A1F9-B94E102A9A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90B8-5939-4290-B07C-89131EBBC90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F5B2-73DA-428A-9507-84A235BFBCC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894-E937-4A51-A2AF-AB56A9B5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296-8796-4D7B-A6BD-333EE9D1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B7F-95E7-4237-9622-7A80EE48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5C6-4660-470C-B875-477824FF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291F-2607-49C8-8F1A-91221472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CF41-3D5E-4A2C-819D-E4EF8154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2047-91F6-4E28-9E0D-D18ED4B6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77E2-9134-4124-8AE2-99389E97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F729-73F2-4F48-8AC9-CEA51F53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DA55-190A-455A-A936-84AB258D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3292-4229-44FF-9B17-F41EA998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97A-0369-4983-A415-7B6D9591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9B38-FAD8-4048-BA93-69649B9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7222-CEE3-4221-9E02-2571C7EE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1E71-906C-4E31-932B-2981ED70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F40D-338B-4080-8D3F-36153E8C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9C24-DAE2-4CFB-A559-B9522623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863-CAD6-4021-9CBE-841E36F2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330-F520-425E-A9C8-64E10384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AAA-BB29-4424-AAB6-677BDB8B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99F-F659-4ABD-A13A-3DEAC907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A52-D590-40FA-810E-8BD06123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D17-46C7-4FE2-AB3C-16335CA9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8EF-2124-4968-A93D-D24C146A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A97C-D170-41F6-9570-9B3A36473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E40A-1434-4761-96AF-76F262424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971640" y="189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Najděte kvadr. rovnic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x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b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c =0       s reálnými koeficienty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, b, c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, (a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≠ 0),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187280" y="2278080"/>
                <a:ext cx="3579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6"/>
              <p:cNvSpPr txBox="1"/>
              <p:nvPr/>
            </p:nvSpPr>
            <p:spPr>
              <a:xfrm>
                <a:off x="1619280" y="314172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1908000" y="3933720"/>
                <a:ext cx="2033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8"/>
              <p:cNvSpPr txBox="1"/>
              <p:nvPr/>
            </p:nvSpPr>
            <p:spPr>
              <a:xfrm>
                <a:off x="1835280" y="5086440"/>
                <a:ext cx="200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0" name="Line 19"/>
          <p:cNvSpPr/>
          <p:nvPr/>
        </p:nvSpPr>
        <p:spPr>
          <a:xfrm>
            <a:off x="1619280" y="2781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7"/>
              <p:cNvSpPr txBox="1"/>
              <p:nvPr/>
            </p:nvSpPr>
            <p:spPr>
              <a:xfrm>
                <a:off x="6516720" y="3860640"/>
                <a:ext cx="185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7"/>
              <p:cNvSpPr txBox="1"/>
              <p:nvPr/>
            </p:nvSpPr>
            <p:spPr>
              <a:xfrm>
                <a:off x="3924360" y="3860640"/>
                <a:ext cx="2579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116000" y="476280"/>
                <a:ext cx="42480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3780000" y="2276640"/>
                <a:ext cx="1647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403280" y="5877000"/>
                <a:ext cx="1760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1332000" y="3645000"/>
                <a:ext cx="12063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4360" y="2852640"/>
            <a:ext cx="7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8000" y="980640"/>
            <a:ext cx="2087640" cy="180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332000" y="4221000"/>
                <a:ext cx="1235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1332000" y="4724280"/>
                <a:ext cx="1000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1187280" y="2276640"/>
                <a:ext cx="2559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5508720" y="2276640"/>
                <a:ext cx="16174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5508720" y="2852640"/>
                <a:ext cx="2413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3357720"/>
            <a:ext cx="21607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5364000" y="2997360"/>
                <a:ext cx="23828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1130400" y="476280"/>
                <a:ext cx="42177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187280" y="234936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1403280" y="393372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8"/>
          <p:cNvSpPr/>
          <p:nvPr/>
        </p:nvSpPr>
        <p:spPr>
          <a:xfrm>
            <a:off x="1330200" y="5373720"/>
            <a:ext cx="392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2997360"/>
            <a:ext cx="505080" cy="576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000"/>
              <a:gd name="textAreaBottom" fmla="*/ 551520 h 576000"/>
            </a:gdLst>
            <a:ahLst/>
            <a:rect l="textAreaLeft" t="textAreaTop" r="textAreaRight" b="textAreaBottom"/>
            <a:pathLst>
              <a:path w="21600" h="24631">
                <a:moveTo>
                  <a:pt x="3600" y="0"/>
                </a:moveTo>
                <a:arcTo wR="3600" hR="3600" stAng="16200000" swAng="-5400000"/>
                <a:lnTo>
                  <a:pt x="0" y="21031"/>
                </a:lnTo>
                <a:arcTo wR="3600" hR="3600" stAng="10800000" swAng="-5400000"/>
                <a:lnTo>
                  <a:pt x="18000" y="24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148000" y="981000"/>
            <a:ext cx="1152360" cy="194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"/>
              <p:cNvSpPr txBox="1"/>
              <p:nvPr/>
            </p:nvSpPr>
            <p:spPr>
              <a:xfrm>
                <a:off x="1403280" y="451008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708360" y="2349360"/>
                <a:ext cx="1617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5364000" y="2349360"/>
                <a:ext cx="1617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403280" y="4508640"/>
                <a:ext cx="824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3500280"/>
            <a:ext cx="216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173240" y="260280"/>
                <a:ext cx="2305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1763640" y="979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763640" y="1700280"/>
                <a:ext cx="1911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5"/>
              <p:cNvSpPr txBox="1"/>
              <p:nvPr/>
            </p:nvSpPr>
            <p:spPr>
              <a:xfrm>
                <a:off x="1835280" y="2492280"/>
                <a:ext cx="1638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4289400" y="260280"/>
                <a:ext cx="1544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4"/>
              <p:cNvSpPr txBox="1"/>
              <p:nvPr/>
            </p:nvSpPr>
            <p:spPr>
              <a:xfrm>
                <a:off x="1187280" y="3716280"/>
                <a:ext cx="2638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5"/>
              <p:cNvSpPr txBox="1"/>
              <p:nvPr/>
            </p:nvSpPr>
            <p:spPr>
              <a:xfrm>
                <a:off x="1763640" y="4435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1763640" y="5154480"/>
                <a:ext cx="2235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1835280" y="5877000"/>
                <a:ext cx="15159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4289400" y="3716280"/>
                <a:ext cx="1514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Line 19"/>
          <p:cNvSpPr/>
          <p:nvPr/>
        </p:nvSpPr>
        <p:spPr>
          <a:xfrm>
            <a:off x="1619280" y="765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619280" y="4219560"/>
            <a:ext cx="230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3708360" y="1628640"/>
                <a:ext cx="1706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5435640" y="1628640"/>
                <a:ext cx="14130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4067280" y="5084640"/>
                <a:ext cx="1530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643280" y="1628640"/>
            <a:ext cx="6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4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5084640"/>
            <a:ext cx="865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62520" y="55879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244520" y="260280"/>
                <a:ext cx="2486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547640" y="98100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1547640" y="1628640"/>
                <a:ext cx="2267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1619280" y="2421000"/>
                <a:ext cx="1820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4197240" y="260280"/>
                <a:ext cx="17287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1763640" y="429264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1824120" y="5013360"/>
                <a:ext cx="2060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0"/>
              <p:cNvSpPr txBox="1"/>
              <p:nvPr/>
            </p:nvSpPr>
            <p:spPr>
              <a:xfrm>
                <a:off x="1782720" y="5789520"/>
                <a:ext cx="1911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1289160" y="3500280"/>
                <a:ext cx="3822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Line 13"/>
          <p:cNvSpPr/>
          <p:nvPr/>
        </p:nvSpPr>
        <p:spPr>
          <a:xfrm>
            <a:off x="1619280" y="76500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1692360" y="400356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3780000" y="1557360"/>
                <a:ext cx="1912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724360" y="1557360"/>
                <a:ext cx="1589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4098960" y="4940280"/>
                <a:ext cx="1617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5867280" y="4941720"/>
                <a:ext cx="15890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4716360" y="1557360"/>
            <a:ext cx="936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2520" y="2060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6610320" y="3357720"/>
                <a:ext cx="25336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4788000" y="1700280"/>
                <a:ext cx="4176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042920" y="333360"/>
                <a:ext cx="29098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258920" y="1700280"/>
                <a:ext cx="3530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332000" y="6021360"/>
                <a:ext cx="2792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200480" y="333360"/>
                <a:ext cx="1970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8" name="Group 22"/>
          <p:cNvGrpSpPr/>
          <p:nvPr/>
        </p:nvGrpSpPr>
        <p:grpSpPr>
          <a:xfrm>
            <a:off x="5680080" y="2204640"/>
            <a:ext cx="3244680" cy="820440"/>
            <a:chOff x="5680080" y="2204640"/>
            <a:chExt cx="3244680" cy="820440"/>
          </a:xfrm>
        </p:grpSpPr>
        <p:sp>
          <p:nvSpPr>
            <p:cNvPr id="299" name="Line 10"/>
            <p:cNvSpPr/>
            <p:nvPr/>
          </p:nvSpPr>
          <p:spPr>
            <a:xfrm>
              <a:off x="6276960" y="2494080"/>
              <a:ext cx="1871640" cy="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680080" y="2565360"/>
              <a:ext cx="324468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+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 flipV="1">
              <a:off x="627696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V="1">
              <a:off x="814860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Oval 14"/>
          <p:cNvSpPr/>
          <p:nvPr/>
        </p:nvSpPr>
        <p:spPr>
          <a:xfrm>
            <a:off x="5435640" y="1700280"/>
            <a:ext cx="79200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Oval 15"/>
          <p:cNvSpPr/>
          <p:nvPr/>
        </p:nvSpPr>
        <p:spPr>
          <a:xfrm>
            <a:off x="7164360" y="1700280"/>
            <a:ext cx="79236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Oval 16"/>
          <p:cNvSpPr/>
          <p:nvPr/>
        </p:nvSpPr>
        <p:spPr>
          <a:xfrm>
            <a:off x="651672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Oval 17"/>
          <p:cNvSpPr/>
          <p:nvPr/>
        </p:nvSpPr>
        <p:spPr>
          <a:xfrm>
            <a:off x="831708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1403280" y="4292640"/>
                <a:ext cx="1206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Oval 21"/>
          <p:cNvSpPr/>
          <p:nvPr/>
        </p:nvSpPr>
        <p:spPr>
          <a:xfrm>
            <a:off x="7524720" y="3357720"/>
            <a:ext cx="647640" cy="5760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1403280" y="83664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0"/>
              <p:cNvSpPr txBox="1"/>
              <p:nvPr/>
            </p:nvSpPr>
            <p:spPr>
              <a:xfrm>
                <a:off x="1403280" y="4797360"/>
                <a:ext cx="12366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0"/>
              <p:cNvSpPr txBox="1"/>
              <p:nvPr/>
            </p:nvSpPr>
            <p:spPr>
              <a:xfrm>
                <a:off x="1403280" y="5300640"/>
                <a:ext cx="10303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 flipH="1" flipV="1">
            <a:off x="3492360" y="764640"/>
            <a:ext cx="3888000" cy="2519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9"/>
              <p:cNvSpPr txBox="1"/>
              <p:nvPr/>
            </p:nvSpPr>
            <p:spPr>
              <a:xfrm>
                <a:off x="3821040" y="3357720"/>
                <a:ext cx="27860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9"/>
              <p:cNvSpPr txBox="1"/>
              <p:nvPr/>
            </p:nvSpPr>
            <p:spPr>
              <a:xfrm>
                <a:off x="1371600" y="3387600"/>
                <a:ext cx="23922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Object 16"/>
              <p:cNvSpPr txBox="1"/>
              <p:nvPr/>
            </p:nvSpPr>
            <p:spPr>
              <a:xfrm>
                <a:off x="6600960" y="3213000"/>
                <a:ext cx="25430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4643280" y="1700280"/>
                <a:ext cx="3915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1116000" y="260280"/>
                <a:ext cx="27273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1332000" y="1700280"/>
                <a:ext cx="3265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1187280" y="5661000"/>
                <a:ext cx="2459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4289400" y="260280"/>
                <a:ext cx="181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2" name="Group 20"/>
          <p:cNvGrpSpPr/>
          <p:nvPr/>
        </p:nvGrpSpPr>
        <p:grpSpPr>
          <a:xfrm>
            <a:off x="5537160" y="2133360"/>
            <a:ext cx="3321000" cy="891720"/>
            <a:chOff x="5537160" y="2133360"/>
            <a:chExt cx="3321000" cy="891720"/>
          </a:xfrm>
        </p:grpSpPr>
        <p:sp>
          <p:nvSpPr>
            <p:cNvPr id="323" name="Line 8"/>
            <p:cNvSpPr/>
            <p:nvPr/>
          </p:nvSpPr>
          <p:spPr>
            <a:xfrm flipV="1">
              <a:off x="6229440" y="2491920"/>
              <a:ext cx="1608120" cy="180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5537160" y="2565360"/>
              <a:ext cx="332100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+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 flipV="1">
              <a:off x="622944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V="1">
              <a:off x="7837560" y="2133360"/>
              <a:ext cx="0" cy="3603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Oval 12"/>
          <p:cNvSpPr/>
          <p:nvPr/>
        </p:nvSpPr>
        <p:spPr>
          <a:xfrm>
            <a:off x="5292720" y="1700280"/>
            <a:ext cx="79200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Oval 13"/>
          <p:cNvSpPr/>
          <p:nvPr/>
        </p:nvSpPr>
        <p:spPr>
          <a:xfrm>
            <a:off x="6948360" y="1700280"/>
            <a:ext cx="79236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Oval 14"/>
          <p:cNvSpPr/>
          <p:nvPr/>
        </p:nvSpPr>
        <p:spPr>
          <a:xfrm>
            <a:off x="6445080" y="1692360"/>
            <a:ext cx="28764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Oval 15"/>
          <p:cNvSpPr/>
          <p:nvPr/>
        </p:nvSpPr>
        <p:spPr>
          <a:xfrm>
            <a:off x="8101080" y="1692360"/>
            <a:ext cx="28728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6"/>
              <p:cNvSpPr txBox="1"/>
              <p:nvPr/>
            </p:nvSpPr>
            <p:spPr>
              <a:xfrm>
                <a:off x="1332000" y="3213000"/>
                <a:ext cx="2433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7"/>
              <p:cNvSpPr txBox="1"/>
              <p:nvPr/>
            </p:nvSpPr>
            <p:spPr>
              <a:xfrm>
                <a:off x="1258920" y="4005360"/>
                <a:ext cx="1069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Oval 18"/>
          <p:cNvSpPr/>
          <p:nvPr/>
        </p:nvSpPr>
        <p:spPr>
          <a:xfrm>
            <a:off x="8317080" y="3219480"/>
            <a:ext cx="826920" cy="4824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1476360" y="76500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563640" y="692280"/>
            <a:ext cx="4608360" cy="2449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7"/>
              <p:cNvSpPr txBox="1"/>
              <p:nvPr/>
            </p:nvSpPr>
            <p:spPr>
              <a:xfrm>
                <a:off x="1258920" y="4437000"/>
                <a:ext cx="1069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7"/>
              <p:cNvSpPr txBox="1"/>
              <p:nvPr/>
            </p:nvSpPr>
            <p:spPr>
              <a:xfrm>
                <a:off x="1258920" y="4797360"/>
                <a:ext cx="851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6"/>
              <p:cNvSpPr txBox="1"/>
              <p:nvPr/>
            </p:nvSpPr>
            <p:spPr>
              <a:xfrm>
                <a:off x="3780000" y="3213000"/>
                <a:ext cx="2792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971640" y="260280"/>
                <a:ext cx="3241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4"/>
              <p:cNvSpPr txBox="1"/>
              <p:nvPr/>
            </p:nvSpPr>
            <p:spPr>
              <a:xfrm>
                <a:off x="1763640" y="1916280"/>
                <a:ext cx="4002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7"/>
              <p:cNvSpPr txBox="1"/>
              <p:nvPr/>
            </p:nvSpPr>
            <p:spPr>
              <a:xfrm>
                <a:off x="4915080" y="378936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9"/>
              <p:cNvSpPr txBox="1"/>
              <p:nvPr/>
            </p:nvSpPr>
            <p:spPr>
              <a:xfrm>
                <a:off x="1619280" y="981000"/>
                <a:ext cx="1635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Line 20"/>
          <p:cNvSpPr/>
          <p:nvPr/>
        </p:nvSpPr>
        <p:spPr>
          <a:xfrm>
            <a:off x="1547640" y="765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1476360" y="5734080"/>
            <a:ext cx="392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9"/>
              <p:cNvSpPr txBox="1"/>
              <p:nvPr/>
            </p:nvSpPr>
            <p:spPr>
              <a:xfrm>
                <a:off x="3564000" y="981000"/>
                <a:ext cx="2119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7"/>
              <p:cNvSpPr txBox="1"/>
              <p:nvPr/>
            </p:nvSpPr>
            <p:spPr>
              <a:xfrm>
                <a:off x="4915080" y="436572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7"/>
              <p:cNvSpPr txBox="1"/>
              <p:nvPr/>
            </p:nvSpPr>
            <p:spPr>
              <a:xfrm>
                <a:off x="4915080" y="4869000"/>
                <a:ext cx="882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7"/>
              <p:cNvSpPr txBox="1"/>
              <p:nvPr/>
            </p:nvSpPr>
            <p:spPr>
              <a:xfrm>
                <a:off x="6138720" y="486900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21"/>
          <p:cNvSpPr/>
          <p:nvPr/>
        </p:nvSpPr>
        <p:spPr>
          <a:xfrm>
            <a:off x="7883640" y="4724280"/>
            <a:ext cx="12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po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692360" y="2565360"/>
                <a:ext cx="3471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4067280" y="256536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3080" y="306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5148360" y="2565360"/>
                <a:ext cx="2471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Oval 12"/>
          <p:cNvSpPr/>
          <p:nvPr/>
        </p:nvSpPr>
        <p:spPr>
          <a:xfrm>
            <a:off x="212400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7672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99564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514836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Oval 12"/>
          <p:cNvSpPr/>
          <p:nvPr/>
        </p:nvSpPr>
        <p:spPr>
          <a:xfrm>
            <a:off x="2340000" y="2637000"/>
            <a:ext cx="165564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Oval 14"/>
          <p:cNvSpPr/>
          <p:nvPr/>
        </p:nvSpPr>
        <p:spPr>
          <a:xfrm>
            <a:off x="4356000" y="2637000"/>
            <a:ext cx="57636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900000" y="189000"/>
                <a:ext cx="3575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1547640" y="2133720"/>
                <a:ext cx="44881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6877080" y="3860640"/>
                <a:ext cx="103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476360" y="981000"/>
                <a:ext cx="2816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Line 6"/>
          <p:cNvSpPr/>
          <p:nvPr/>
        </p:nvSpPr>
        <p:spPr>
          <a:xfrm>
            <a:off x="1405080" y="9079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8"/>
              <p:cNvSpPr txBox="1"/>
              <p:nvPr/>
            </p:nvSpPr>
            <p:spPr>
              <a:xfrm>
                <a:off x="1619280" y="5445000"/>
                <a:ext cx="25210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284720" y="981000"/>
                <a:ext cx="1847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6227640" y="981000"/>
                <a:ext cx="275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2124000" y="2852640"/>
                <a:ext cx="4006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2124000" y="3716280"/>
                <a:ext cx="2619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6948360" y="4365720"/>
                <a:ext cx="973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6877080" y="4726080"/>
                <a:ext cx="914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4500720" y="2781360"/>
            <a:ext cx="1439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5080" y="3357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190800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Oval 14"/>
          <p:cNvSpPr/>
          <p:nvPr/>
        </p:nvSpPr>
        <p:spPr>
          <a:xfrm>
            <a:off x="2916360" y="2131920"/>
            <a:ext cx="93492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399564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Oval 14"/>
          <p:cNvSpPr/>
          <p:nvPr/>
        </p:nvSpPr>
        <p:spPr>
          <a:xfrm>
            <a:off x="5003640" y="213192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Oval 12"/>
          <p:cNvSpPr/>
          <p:nvPr/>
        </p:nvSpPr>
        <p:spPr>
          <a:xfrm>
            <a:off x="2771640" y="2852640"/>
            <a:ext cx="1656000" cy="505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Oval 14"/>
          <p:cNvSpPr/>
          <p:nvPr/>
        </p:nvSpPr>
        <p:spPr>
          <a:xfrm>
            <a:off x="4788000" y="2852640"/>
            <a:ext cx="107928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36720" y="141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971640" y="260280"/>
                <a:ext cx="3968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92360" y="2133720"/>
                <a:ext cx="3943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6948360" y="3716280"/>
                <a:ext cx="1400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1547640" y="981000"/>
                <a:ext cx="311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6"/>
          <p:cNvSpPr/>
          <p:nvPr/>
        </p:nvSpPr>
        <p:spPr>
          <a:xfrm>
            <a:off x="1547640" y="83664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403280" y="5516640"/>
                <a:ext cx="31273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4716360" y="1052640"/>
                <a:ext cx="1573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6372360" y="1052640"/>
                <a:ext cx="2452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276720" y="981000"/>
            <a:ext cx="7905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49080" y="1484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2627280" y="2708280"/>
                <a:ext cx="4060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14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627280" y="3645000"/>
                <a:ext cx="3060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5292720" y="263700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65080" y="321300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4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6948360" y="4292640"/>
                <a:ext cx="1430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6948360" y="4724280"/>
                <a:ext cx="1309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Oval 12"/>
          <p:cNvSpPr/>
          <p:nvPr/>
        </p:nvSpPr>
        <p:spPr>
          <a:xfrm>
            <a:off x="2052720" y="2135160"/>
            <a:ext cx="79200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3132000" y="2133720"/>
            <a:ext cx="503280" cy="4381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Oval 12"/>
          <p:cNvSpPr/>
          <p:nvPr/>
        </p:nvSpPr>
        <p:spPr>
          <a:xfrm>
            <a:off x="3924360" y="2133720"/>
            <a:ext cx="71892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932360" y="2133720"/>
            <a:ext cx="503280" cy="4316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3276720" y="2708280"/>
            <a:ext cx="194292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5580000" y="270828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634160" cy="501012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klad kvadratického trojčlenu na souči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týkání; Algebraické vzorce; Vietovy vzorce; Vzorec pro kořeny kvadratické rovnice s diskriminant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1187280" y="549360"/>
                <a:ext cx="3211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1"/>
              <p:cNvSpPr txBox="1"/>
              <p:nvPr/>
            </p:nvSpPr>
            <p:spPr>
              <a:xfrm>
                <a:off x="1187280" y="1557360"/>
                <a:ext cx="2968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3"/>
              <p:cNvSpPr txBox="1"/>
              <p:nvPr/>
            </p:nvSpPr>
            <p:spPr>
              <a:xfrm>
                <a:off x="1187280" y="2708280"/>
                <a:ext cx="3030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5"/>
              <p:cNvSpPr txBox="1"/>
              <p:nvPr/>
            </p:nvSpPr>
            <p:spPr>
              <a:xfrm>
                <a:off x="1187280" y="3933720"/>
                <a:ext cx="281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7"/>
              <p:cNvSpPr txBox="1"/>
              <p:nvPr/>
            </p:nvSpPr>
            <p:spPr>
              <a:xfrm>
                <a:off x="1187280" y="4797360"/>
                <a:ext cx="27878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9"/>
              <p:cNvSpPr txBox="1"/>
              <p:nvPr/>
            </p:nvSpPr>
            <p:spPr>
              <a:xfrm>
                <a:off x="1258920" y="5805360"/>
                <a:ext cx="2787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21"/>
          <p:cNvGrpSpPr/>
          <p:nvPr/>
        </p:nvGrpSpPr>
        <p:grpSpPr>
          <a:xfrm>
            <a:off x="5508720" y="476280"/>
            <a:ext cx="3635280" cy="6091200"/>
            <a:chOff x="5508720" y="476280"/>
            <a:chExt cx="3635280" cy="6091200"/>
          </a:xfrm>
        </p:grpSpPr>
        <mc:AlternateContent>
          <mc:Choice xmlns:a14="http://schemas.microsoft.com/office/drawing/2010/main" Requires="a14">
            <p:sp>
              <p:nvSpPr>
                <p:cNvPr id="411" name="Object 6"/>
                <p:cNvSpPr txBox="1"/>
                <p:nvPr/>
              </p:nvSpPr>
              <p:spPr>
                <a:xfrm>
                  <a:off x="5508720" y="476280"/>
                  <a:ext cx="2496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Object 10"/>
                <p:cNvSpPr txBox="1"/>
                <p:nvPr/>
              </p:nvSpPr>
              <p:spPr>
                <a:xfrm>
                  <a:off x="5508720" y="1268280"/>
                  <a:ext cx="243972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12"/>
                <p:cNvSpPr txBox="1"/>
                <p:nvPr/>
              </p:nvSpPr>
              <p:spPr>
                <a:xfrm>
                  <a:off x="5796000" y="2421000"/>
                  <a:ext cx="24685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14"/>
                <p:cNvSpPr txBox="1"/>
                <p:nvPr/>
              </p:nvSpPr>
              <p:spPr>
                <a:xfrm>
                  <a:off x="5867280" y="3860640"/>
                  <a:ext cx="17719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5" name="Rectangle 18"/>
            <p:cNvSpPr/>
            <p:nvPr/>
          </p:nvSpPr>
          <p:spPr>
            <a:xfrm>
              <a:off x="5867280" y="4724280"/>
              <a:ext cx="3276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00"/>
                  </a:solidFill>
                  <a:latin typeface="Times New Roman"/>
                </a:rPr>
                <a:t>rovnice neexistuje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20"/>
                <p:cNvSpPr txBox="1"/>
                <p:nvPr/>
              </p:nvSpPr>
              <p:spPr>
                <a:xfrm>
                  <a:off x="5867280" y="5589720"/>
                  <a:ext cx="1857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Rozklad kvadratického trojčlenu na součin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763640" y="4797360"/>
                <a:ext cx="6193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3" name="Group 4"/>
          <p:cNvGrpSpPr/>
          <p:nvPr/>
        </p:nvGrpSpPr>
        <p:grpSpPr>
          <a:xfrm>
            <a:off x="1116000" y="5732640"/>
            <a:ext cx="8028000" cy="720720"/>
            <a:chOff x="1116000" y="5732640"/>
            <a:chExt cx="8028000" cy="7207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6588000" y="5732640"/>
                  <a:ext cx="25560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Rectangle 6"/>
            <p:cNvSpPr/>
            <p:nvPr/>
          </p:nvSpPr>
          <p:spPr>
            <a:xfrm>
              <a:off x="1116000" y="5732640"/>
              <a:ext cx="8028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349280" indent="-134928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2  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 jsou kořeny kvadr. rovnic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46" name="Rectangle 7"/>
          <p:cNvSpPr/>
          <p:nvPr/>
        </p:nvSpPr>
        <p:spPr>
          <a:xfrm>
            <a:off x="1042920" y="119700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rozkladu na součin můžeme uží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ytýkání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algebraické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4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2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ietovy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6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3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zorec pro kořeny kvadr. rovnice s diskriminante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ložte v C dané kvadratické výrazy na součin lineárních činitelů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116000" y="1557360"/>
                <a:ext cx="2244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219640" y="2205000"/>
                <a:ext cx="3672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5076720" y="3502080"/>
                <a:ext cx="1728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4859280" y="2779560"/>
                <a:ext cx="1303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1692360" y="5229360"/>
                <a:ext cx="582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692360" y="4653000"/>
                <a:ext cx="4392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476360" y="5157720"/>
            <a:ext cx="3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522936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5229360"/>
            <a:ext cx="1008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5229360"/>
            <a:ext cx="93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472608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7380360" y="3357720"/>
                <a:ext cx="1407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7380360" y="4005360"/>
                <a:ext cx="1466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6877080" y="3717720"/>
            <a:ext cx="503280" cy="215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1692360" y="5878440"/>
                <a:ext cx="50022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380360" y="335772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400536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3635280" y="1628640"/>
            <a:ext cx="55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nejprve prověříme, zda nelze použít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1200240" y="476280"/>
                <a:ext cx="2305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046840" y="1052640"/>
                <a:ext cx="373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4859280" y="2708280"/>
                <a:ext cx="2727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4788000" y="1844640"/>
                <a:ext cx="1272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1547640" y="4149720"/>
                <a:ext cx="4942080" cy="22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530160" y="52560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476280"/>
                <a:ext cx="318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4572000" y="1268280"/>
                <a:ext cx="4278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4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627440" y="2779560"/>
                <a:ext cx="45165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356000" y="1916280"/>
                <a:ext cx="13035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1258920" y="4292640"/>
                <a:ext cx="608652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20948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25360" y="476280"/>
                <a:ext cx="245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4859280" y="1125360"/>
                <a:ext cx="40975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253040" y="2781360"/>
                <a:ext cx="3930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692600" y="1917720"/>
                <a:ext cx="14540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1403280" y="4221000"/>
                <a:ext cx="6462720" cy="21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356184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405080" y="404640"/>
                <a:ext cx="269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1405080" y="1341360"/>
                <a:ext cx="2377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1405080" y="2205000"/>
                <a:ext cx="1871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9"/>
              <p:cNvSpPr txBox="1"/>
              <p:nvPr/>
            </p:nvSpPr>
            <p:spPr>
              <a:xfrm>
                <a:off x="1476360" y="3141720"/>
                <a:ext cx="2219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1"/>
              <p:cNvSpPr txBox="1"/>
              <p:nvPr/>
            </p:nvSpPr>
            <p:spPr>
              <a:xfrm>
                <a:off x="1476360" y="4076640"/>
                <a:ext cx="218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3440" y="5013360"/>
                <a:ext cx="164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5"/>
              <p:cNvSpPr txBox="1"/>
              <p:nvPr/>
            </p:nvSpPr>
            <p:spPr>
              <a:xfrm>
                <a:off x="1332000" y="5950080"/>
                <a:ext cx="256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1"/>
              <p:cNvSpPr txBox="1"/>
              <p:nvPr/>
            </p:nvSpPr>
            <p:spPr>
              <a:xfrm>
                <a:off x="4673520" y="189000"/>
                <a:ext cx="4470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7"/>
              <p:cNvSpPr txBox="1"/>
              <p:nvPr/>
            </p:nvSpPr>
            <p:spPr>
              <a:xfrm>
                <a:off x="4716360" y="1341360"/>
                <a:ext cx="1830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8"/>
              <p:cNvSpPr txBox="1"/>
              <p:nvPr/>
            </p:nvSpPr>
            <p:spPr>
              <a:xfrm>
                <a:off x="4788000" y="2276640"/>
                <a:ext cx="142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4788000" y="3213000"/>
                <a:ext cx="25239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2"/>
              <p:cNvSpPr txBox="1"/>
              <p:nvPr/>
            </p:nvSpPr>
            <p:spPr>
              <a:xfrm>
                <a:off x="4788000" y="4149720"/>
                <a:ext cx="1773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4"/>
              <p:cNvSpPr txBox="1"/>
              <p:nvPr/>
            </p:nvSpPr>
            <p:spPr>
              <a:xfrm>
                <a:off x="4788000" y="5084640"/>
                <a:ext cx="206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6"/>
              <p:cNvSpPr txBox="1"/>
              <p:nvPr/>
            </p:nvSpPr>
            <p:spPr>
              <a:xfrm>
                <a:off x="4788000" y="5784840"/>
                <a:ext cx="374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971640" y="18900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druhý kořen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kvadratické rovnice s reálnými koeficienty, 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187280" y="1700280"/>
                <a:ext cx="1881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4788000" y="1700280"/>
                <a:ext cx="2151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4"/>
              <p:cNvSpPr txBox="1"/>
              <p:nvPr/>
            </p:nvSpPr>
            <p:spPr>
              <a:xfrm>
                <a:off x="1187280" y="2565360"/>
                <a:ext cx="1849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4788000" y="2494080"/>
                <a:ext cx="2058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7"/>
              <p:cNvSpPr txBox="1"/>
              <p:nvPr/>
            </p:nvSpPr>
            <p:spPr>
              <a:xfrm>
                <a:off x="1187280" y="3357720"/>
                <a:ext cx="178920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4788000" y="3357720"/>
                <a:ext cx="22096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187280" y="4292640"/>
                <a:ext cx="1395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4788000" y="429264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1"/>
              <p:cNvSpPr txBox="1"/>
              <p:nvPr/>
            </p:nvSpPr>
            <p:spPr>
              <a:xfrm>
                <a:off x="1187280" y="5157720"/>
                <a:ext cx="1757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2"/>
              <p:cNvSpPr txBox="1"/>
              <p:nvPr/>
            </p:nvSpPr>
            <p:spPr>
              <a:xfrm>
                <a:off x="4788000" y="5157720"/>
                <a:ext cx="223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2867040" y="5229360"/>
                <a:ext cx="117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4"/>
              <p:cNvSpPr txBox="1"/>
              <p:nvPr/>
            </p:nvSpPr>
            <p:spPr>
              <a:xfrm>
                <a:off x="1187280" y="5950080"/>
                <a:ext cx="1608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5"/>
              <p:cNvSpPr txBox="1"/>
              <p:nvPr/>
            </p:nvSpPr>
            <p:spPr>
              <a:xfrm>
                <a:off x="4788000" y="595008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26Z</dcterms:modified>
  <cp:revision>295</cp:revision>
  <dc:subject/>
  <dc:title>KČ</dc:title>
</cp:coreProperties>
</file>