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E4C-EC1B-40AD-97EC-410C1BF7BA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7588-E094-4416-BC33-662B7D9D02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F5D7-A916-47A2-AF7B-0411B5BD7A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28B-5E54-49D3-B828-037BC359CA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EC6-DBBB-49C2-99DF-1EF465675A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1E40-FB24-4556-B5EB-65F0969999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430-53F8-4E4B-860B-88D3F9B2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BD1-596D-417E-BC4F-1729BD0B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E9D-3CC1-4208-B519-A47C576C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7E2-B75F-43F6-A919-ADBCDEBC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2CBD-CB3D-4FAE-8485-63BC26E4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249-D63D-4669-BD03-2B24AD7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D491-BB8C-488F-9EEB-A3605A3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4C64-B886-4E23-9908-CA1057E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2149-7830-4F36-8775-FCD4A9F4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5DD2-DBCC-45CB-A9A0-546CF2D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752C-2571-42E2-8CAB-3F2EB8D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3CF-5EB6-498E-A96B-AD7B835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86B7-BC9A-4021-B278-D17FA10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FF60-AF82-414D-B86B-60DB907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6CF-DCAC-402E-937B-17DCD5AB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791A-6797-49C2-9B1C-F565879D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2435-8285-4637-9A52-26E68C01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E95-2351-4C1C-B0C3-FDBA2307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D11-4A1B-42BD-A0EC-63729FA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8FD-00C0-456B-A9A6-E49C73F3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663-1FBE-42F0-BCCD-3D1A2FD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989-2B8B-42D7-A4E2-3F04A7F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B3B-20A8-4789-A9AB-E3368A9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5EB-A6EA-4A64-BD20-BD370D9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5E34-9DA0-4B1B-B3EE-3FD5CCCDF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B257-22D8-47FE-85CC-FF2D53D8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476360" y="47628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101680" y="1411200"/>
                <a:ext cx="106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317680" y="241920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4788000" y="476280"/>
                <a:ext cx="318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4788000" y="1411200"/>
                <a:ext cx="3217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6083280" y="241920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372360" y="3429000"/>
                <a:ext cx="1063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6" name="Rectangle 15"/>
          <p:cNvSpPr/>
          <p:nvPr/>
        </p:nvSpPr>
        <p:spPr>
          <a:xfrm>
            <a:off x="6012000" y="4365720"/>
            <a:ext cx="31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1. příklad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332000" y="620640"/>
                <a:ext cx="2062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2268360" y="1484280"/>
                <a:ext cx="127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268360" y="3141720"/>
                <a:ext cx="1333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3"/>
              <p:cNvSpPr txBox="1"/>
              <p:nvPr/>
            </p:nvSpPr>
            <p:spPr>
              <a:xfrm>
                <a:off x="2411280" y="407844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4"/>
              <p:cNvSpPr txBox="1"/>
              <p:nvPr/>
            </p:nvSpPr>
            <p:spPr>
              <a:xfrm>
                <a:off x="2484360" y="5014800"/>
                <a:ext cx="1154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6156360" y="692280"/>
                <a:ext cx="1576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6"/>
              <p:cNvSpPr txBox="1"/>
              <p:nvPr/>
            </p:nvSpPr>
            <p:spPr>
              <a:xfrm>
                <a:off x="5867280" y="2421000"/>
                <a:ext cx="1909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5075280" y="3429000"/>
                <a:ext cx="2698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6946920" y="4365720"/>
                <a:ext cx="1154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059280" y="155736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314172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476360" y="2276640"/>
            <a:ext cx="31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udá odmocnina – nelze odmocnit zápornou hodno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5364000" y="148428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existuje vzorec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+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, pouze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76500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70560" y="2421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258920" y="620640"/>
                <a:ext cx="242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2411280" y="1557360"/>
                <a:ext cx="1640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2627280" y="2565360"/>
                <a:ext cx="145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771640" y="4292640"/>
                <a:ext cx="1094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2916360" y="5157720"/>
                <a:ext cx="1184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4"/>
              <p:cNvSpPr txBox="1"/>
              <p:nvPr/>
            </p:nvSpPr>
            <p:spPr>
              <a:xfrm>
                <a:off x="2611440" y="3429000"/>
                <a:ext cx="1488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6084720" y="692280"/>
                <a:ext cx="1973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300720" y="1557360"/>
                <a:ext cx="176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6012000" y="2492280"/>
                <a:ext cx="206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8"/>
              <p:cNvSpPr txBox="1"/>
              <p:nvPr/>
            </p:nvSpPr>
            <p:spPr>
              <a:xfrm>
                <a:off x="5334120" y="3429000"/>
                <a:ext cx="2759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7236000" y="4365720"/>
                <a:ext cx="118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47640" y="549360"/>
                <a:ext cx="209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2211480" y="1413000"/>
                <a:ext cx="1272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2211480" y="2349360"/>
                <a:ext cx="133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2290680" y="3343320"/>
                <a:ext cx="1335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2427120" y="4365720"/>
                <a:ext cx="1457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3"/>
              <p:cNvSpPr txBox="1"/>
              <p:nvPr/>
            </p:nvSpPr>
            <p:spPr>
              <a:xfrm>
                <a:off x="6877080" y="620640"/>
                <a:ext cx="163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4"/>
              <p:cNvSpPr txBox="1"/>
              <p:nvPr/>
            </p:nvSpPr>
            <p:spPr>
              <a:xfrm>
                <a:off x="7164360" y="1413000"/>
                <a:ext cx="1274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5"/>
              <p:cNvSpPr txBox="1"/>
              <p:nvPr/>
            </p:nvSpPr>
            <p:spPr>
              <a:xfrm>
                <a:off x="6659640" y="2205000"/>
                <a:ext cx="1577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6"/>
              <p:cNvSpPr txBox="1"/>
              <p:nvPr/>
            </p:nvSpPr>
            <p:spPr>
              <a:xfrm>
                <a:off x="6372360" y="3068640"/>
                <a:ext cx="1881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7"/>
              <p:cNvSpPr txBox="1"/>
              <p:nvPr/>
            </p:nvSpPr>
            <p:spPr>
              <a:xfrm>
                <a:off x="5122800" y="3975120"/>
                <a:ext cx="318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8"/>
              <p:cNvSpPr txBox="1"/>
              <p:nvPr/>
            </p:nvSpPr>
            <p:spPr>
              <a:xfrm>
                <a:off x="7451640" y="4869000"/>
                <a:ext cx="145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27040" y="728640"/>
                <a:ext cx="225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1258920" y="1916280"/>
                <a:ext cx="36478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258920" y="3860640"/>
                <a:ext cx="320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1332000" y="5373720"/>
                <a:ext cx="2440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Group 13"/>
          <p:cNvGrpSpPr/>
          <p:nvPr/>
        </p:nvGrpSpPr>
        <p:grpSpPr>
          <a:xfrm>
            <a:off x="5651640" y="404640"/>
            <a:ext cx="3309480" cy="5829120"/>
            <a:chOff x="5651640" y="404640"/>
            <a:chExt cx="3309480" cy="5829120"/>
          </a:xfrm>
        </p:grpSpPr>
        <mc:AlternateContent>
          <mc:Choice xmlns:a14="http://schemas.microsoft.com/office/drawing/2010/main" Requires="a14">
            <p:sp>
              <p:nvSpPr>
                <p:cNvPr id="259" name="Object 7"/>
                <p:cNvSpPr txBox="1"/>
                <p:nvPr/>
              </p:nvSpPr>
              <p:spPr>
                <a:xfrm>
                  <a:off x="5651640" y="404640"/>
                  <a:ext cx="160632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8"/>
                <p:cNvSpPr txBox="1"/>
                <p:nvPr/>
              </p:nvSpPr>
              <p:spPr>
                <a:xfrm>
                  <a:off x="5675400" y="2058840"/>
                  <a:ext cx="1223640" cy="10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9"/>
                <p:cNvSpPr txBox="1"/>
                <p:nvPr/>
              </p:nvSpPr>
              <p:spPr>
                <a:xfrm>
                  <a:off x="5675400" y="3787560"/>
                  <a:ext cx="15091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5748120" y="5011560"/>
                  <a:ext cx="321300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58920" y="692280"/>
            <a:ext cx="78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Úplná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042920" y="1844640"/>
            <a:ext cx="81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 řeš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 na součin pomocí vietových vzorc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ůzná reálná čís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;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/3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užití vzorce pro kořeny s diskriminan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16000" y="1268280"/>
                <a:ext cx="279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1"/>
              <p:cNvSpPr txBox="1"/>
              <p:nvPr/>
            </p:nvSpPr>
            <p:spPr>
              <a:xfrm>
                <a:off x="4788000" y="2060640"/>
                <a:ext cx="2762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403280" y="3357720"/>
                <a:ext cx="2232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7"/>
              <p:cNvSpPr txBox="1"/>
              <p:nvPr/>
            </p:nvSpPr>
            <p:spPr>
              <a:xfrm>
                <a:off x="7667640" y="2060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1403280" y="4508640"/>
                <a:ext cx="15541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0"/>
              <p:cNvSpPr txBox="1"/>
              <p:nvPr/>
            </p:nvSpPr>
            <p:spPr>
              <a:xfrm>
                <a:off x="4500720" y="2637000"/>
                <a:ext cx="1122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1"/>
              <p:cNvSpPr txBox="1"/>
              <p:nvPr/>
            </p:nvSpPr>
            <p:spPr>
              <a:xfrm>
                <a:off x="1417680" y="5516640"/>
                <a:ext cx="2171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187280" y="692280"/>
                <a:ext cx="300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1692360" y="2205000"/>
                <a:ext cx="149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5076720" y="1413000"/>
                <a:ext cx="3005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763640" y="3645000"/>
                <a:ext cx="157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763640" y="4869000"/>
                <a:ext cx="16560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5"/>
              <p:cNvSpPr txBox="1"/>
              <p:nvPr/>
            </p:nvSpPr>
            <p:spPr>
              <a:xfrm>
                <a:off x="1187280" y="404640"/>
                <a:ext cx="3002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5292720" y="981000"/>
                <a:ext cx="306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8317080" y="981000"/>
                <a:ext cx="576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5219640" y="1486080"/>
                <a:ext cx="1395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4932360" y="206064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1692360" y="3716280"/>
                <a:ext cx="2001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1619280" y="4653000"/>
                <a:ext cx="209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1619280" y="5661000"/>
                <a:ext cx="4184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1"/>
              <p:cNvSpPr txBox="1"/>
              <p:nvPr/>
            </p:nvSpPr>
            <p:spPr>
              <a:xfrm>
                <a:off x="4356000" y="476280"/>
                <a:ext cx="63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"/>
              <p:cNvSpPr txBox="1"/>
              <p:nvPr/>
            </p:nvSpPr>
            <p:spPr>
              <a:xfrm>
                <a:off x="1835280" y="981000"/>
                <a:ext cx="236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1353960" y="404640"/>
                <a:ext cx="26686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836640"/>
                <a:ext cx="28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7885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1547640" y="3789360"/>
                <a:ext cx="1767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619280" y="4941720"/>
                <a:ext cx="1442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1692360" y="5805360"/>
                <a:ext cx="2887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reálný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é rovnice s reálnými koeficienty (ryze kvadratická, úplná); Diskriminant; Imaginární kořeny; Reálné koře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5003640" y="836640"/>
                <a:ext cx="3308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838836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488960" y="3789360"/>
                <a:ext cx="1884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1590840" y="4941720"/>
                <a:ext cx="15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33680" y="5805360"/>
                <a:ext cx="3004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971640" y="189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iskriminant – částečné odmocněn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71640" y="1125360"/>
            <a:ext cx="81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sou čísla, jejichž druhou odmocninou je číslo cel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971640" y="2421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iná čísla nelze takto odmocnit, ale lze je převést na takový součin, že jeden z činitelů je číslo, jehož odmocninou je celé čísl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1403280" y="1701720"/>
                <a:ext cx="6985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5148360" y="3429000"/>
                <a:ext cx="3570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4932360" y="4797360"/>
                <a:ext cx="3984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5003640" y="5516640"/>
                <a:ext cx="3673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5003640" y="4076640"/>
                <a:ext cx="3675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5003640" y="6165720"/>
                <a:ext cx="2819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lze</m:t>
                    </m:r>
                    <m:r>
                      <m:rPr>
                        <m:lit/>
                        <m:nor/>
                      </m:rPr>
                      <m:t xml:space="preserve">čá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od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1309680" y="404640"/>
                <a:ext cx="2759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003640" y="836640"/>
                <a:ext cx="3095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8101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4716360" y="1916280"/>
                <a:ext cx="25765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8"/>
              <p:cNvSpPr txBox="1"/>
              <p:nvPr/>
            </p:nvSpPr>
            <p:spPr>
              <a:xfrm>
                <a:off x="1547640" y="3716280"/>
                <a:ext cx="2208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9"/>
              <p:cNvSpPr txBox="1"/>
              <p:nvPr/>
            </p:nvSpPr>
            <p:spPr>
              <a:xfrm>
                <a:off x="1692360" y="4941720"/>
                <a:ext cx="194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0"/>
              <p:cNvSpPr txBox="1"/>
              <p:nvPr/>
            </p:nvSpPr>
            <p:spPr>
              <a:xfrm>
                <a:off x="1692360" y="5805360"/>
                <a:ext cx="3859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364000" y="1052640"/>
                <a:ext cx="3003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8317080" y="10382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292720" y="154296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5041800" y="2117880"/>
                <a:ext cx="2694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430280" y="3716280"/>
                <a:ext cx="2444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1547640" y="4941720"/>
                <a:ext cx="2119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30360" y="5805360"/>
                <a:ext cx="4183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1"/>
              <p:cNvSpPr txBox="1"/>
              <p:nvPr/>
            </p:nvSpPr>
            <p:spPr>
              <a:xfrm>
                <a:off x="4367160" y="476280"/>
                <a:ext cx="6066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1979640" y="981000"/>
                <a:ext cx="2212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930240" y="390600"/>
                <a:ext cx="3517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579920" y="776160"/>
                <a:ext cx="3944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8567640" y="90792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572000" y="141300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356000" y="2060640"/>
                <a:ext cx="2695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1562040" y="3687840"/>
                <a:ext cx="2179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547640" y="4724280"/>
                <a:ext cx="3002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1692360" y="5805360"/>
                <a:ext cx="3504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4537080"/>
                <a:ext cx="30020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1476360" y="292428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42920" y="333360"/>
                <a:ext cx="397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859280" y="1413000"/>
                <a:ext cx="348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8388360" y="141300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4788000" y="1917720"/>
                <a:ext cx="1393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4572000" y="249408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1547640" y="4149720"/>
                <a:ext cx="2149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9"/>
              <p:cNvSpPr txBox="1"/>
              <p:nvPr/>
            </p:nvSpPr>
            <p:spPr>
              <a:xfrm>
                <a:off x="1619280" y="5229360"/>
                <a:ext cx="1882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"/>
              <p:cNvSpPr txBox="1"/>
              <p:nvPr/>
            </p:nvSpPr>
            <p:spPr>
              <a:xfrm>
                <a:off x="1692360" y="5950080"/>
                <a:ext cx="37702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1"/>
              <p:cNvSpPr txBox="1"/>
              <p:nvPr/>
            </p:nvSpPr>
            <p:spPr>
              <a:xfrm>
                <a:off x="1619280" y="981000"/>
                <a:ext cx="251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476360" y="306864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5292720" y="2205000"/>
                <a:ext cx="333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8567640" y="220500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5219640" y="2709720"/>
                <a:ext cx="1211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4913280" y="3286080"/>
                <a:ext cx="1303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8"/>
              <p:cNvSpPr txBox="1"/>
              <p:nvPr/>
            </p:nvSpPr>
            <p:spPr>
              <a:xfrm>
                <a:off x="1490760" y="4292640"/>
                <a:ext cx="1884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9"/>
              <p:cNvSpPr txBox="1"/>
              <p:nvPr/>
            </p:nvSpPr>
            <p:spPr>
              <a:xfrm>
                <a:off x="1547640" y="5373720"/>
                <a:ext cx="1500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1547640" y="6021360"/>
                <a:ext cx="2975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1"/>
              <p:cNvSpPr txBox="1"/>
              <p:nvPr/>
            </p:nvSpPr>
            <p:spPr>
              <a:xfrm>
                <a:off x="1619280" y="1557360"/>
                <a:ext cx="2700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966960" y="260280"/>
                <a:ext cx="4640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3"/>
              <p:cNvSpPr txBox="1"/>
              <p:nvPr/>
            </p:nvSpPr>
            <p:spPr>
              <a:xfrm>
                <a:off x="1547640" y="907920"/>
                <a:ext cx="4518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4356000" y="1628640"/>
                <a:ext cx="606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5"/>
              <p:cNvSpPr txBox="1"/>
              <p:nvPr/>
            </p:nvSpPr>
            <p:spPr>
              <a:xfrm>
                <a:off x="1744560" y="2133720"/>
                <a:ext cx="251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1258920" y="333360"/>
                <a:ext cx="3105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258920" y="1413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1258920" y="2565360"/>
                <a:ext cx="3297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1258920" y="371628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1258920" y="4869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3"/>
              <p:cNvSpPr txBox="1"/>
              <p:nvPr/>
            </p:nvSpPr>
            <p:spPr>
              <a:xfrm>
                <a:off x="1258920" y="5877000"/>
                <a:ext cx="294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5" name="Group 15"/>
          <p:cNvGrpSpPr/>
          <p:nvPr/>
        </p:nvGrpSpPr>
        <p:grpSpPr>
          <a:xfrm>
            <a:off x="5724360" y="189000"/>
            <a:ext cx="2519640" cy="6433920"/>
            <a:chOff x="5724360" y="189000"/>
            <a:chExt cx="2519640" cy="6433920"/>
          </a:xfrm>
        </p:grpSpPr>
        <mc:AlternateContent>
          <mc:Choice xmlns:a14="http://schemas.microsoft.com/office/drawing/2010/main" Requires="a14">
            <p:sp>
              <p:nvSpPr>
                <p:cNvPr id="376" name="Object 3"/>
                <p:cNvSpPr txBox="1"/>
                <p:nvPr/>
              </p:nvSpPr>
              <p:spPr>
                <a:xfrm>
                  <a:off x="5724360" y="189000"/>
                  <a:ext cx="180036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5"/>
                <p:cNvSpPr txBox="1"/>
                <p:nvPr/>
              </p:nvSpPr>
              <p:spPr>
                <a:xfrm>
                  <a:off x="5796000" y="1268280"/>
                  <a:ext cx="18018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9"/>
                <p:cNvSpPr txBox="1"/>
                <p:nvPr/>
              </p:nvSpPr>
              <p:spPr>
                <a:xfrm>
                  <a:off x="5867280" y="3789360"/>
                  <a:ext cx="17989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Object 10"/>
                <p:cNvSpPr txBox="1"/>
                <p:nvPr/>
              </p:nvSpPr>
              <p:spPr>
                <a:xfrm>
                  <a:off x="5796000" y="2421000"/>
                  <a:ext cx="18302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867280" y="4869000"/>
                  <a:ext cx="162396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Object 14"/>
                <p:cNvSpPr txBox="1"/>
                <p:nvPr/>
              </p:nvSpPr>
              <p:spPr>
                <a:xfrm>
                  <a:off x="5867280" y="5589720"/>
                  <a:ext cx="2376720" cy="103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1332000" y="69228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1332000" y="1916280"/>
                <a:ext cx="307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1332000" y="321300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1332000" y="4508640"/>
                <a:ext cx="3644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0"/>
              <p:cNvSpPr txBox="1"/>
              <p:nvPr/>
            </p:nvSpPr>
            <p:spPr>
              <a:xfrm>
                <a:off x="1332000" y="5661000"/>
                <a:ext cx="415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87" name="Group 22"/>
          <p:cNvGrpSpPr/>
          <p:nvPr/>
        </p:nvGrpSpPr>
        <p:grpSpPr>
          <a:xfrm>
            <a:off x="6300720" y="404640"/>
            <a:ext cx="2325600" cy="5932800"/>
            <a:chOff x="6300720" y="404640"/>
            <a:chExt cx="2325600" cy="5932800"/>
          </a:xfrm>
        </p:grpSpPr>
        <mc:AlternateContent>
          <mc:Choice xmlns:a14="http://schemas.microsoft.com/office/drawing/2010/main" Requires="a14">
            <p:sp>
              <p:nvSpPr>
                <p:cNvPr id="388" name="Object 12"/>
                <p:cNvSpPr txBox="1"/>
                <p:nvPr/>
              </p:nvSpPr>
              <p:spPr>
                <a:xfrm>
                  <a:off x="6300720" y="404640"/>
                  <a:ext cx="222408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5"/>
                <p:cNvSpPr txBox="1"/>
                <p:nvPr/>
              </p:nvSpPr>
              <p:spPr>
                <a:xfrm>
                  <a:off x="6300720" y="1844640"/>
                  <a:ext cx="225432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16"/>
                <p:cNvSpPr txBox="1"/>
                <p:nvPr/>
              </p:nvSpPr>
              <p:spPr>
                <a:xfrm>
                  <a:off x="6372360" y="2887560"/>
                  <a:ext cx="225396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rad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6443640" y="4508640"/>
                  <a:ext cx="16970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21"/>
                <p:cNvSpPr txBox="1"/>
                <p:nvPr/>
              </p:nvSpPr>
              <p:spPr>
                <a:xfrm>
                  <a:off x="6443640" y="5734080"/>
                  <a:ext cx="13762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3200" y="41148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vadratická rovn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reálný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79640" y="1125360"/>
                <a:ext cx="28195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0"/>
          <p:cNvGrpSpPr/>
          <p:nvPr/>
        </p:nvGrpSpPr>
        <p:grpSpPr>
          <a:xfrm>
            <a:off x="5423040" y="1268280"/>
            <a:ext cx="2822040" cy="505080"/>
            <a:chOff x="5423040" y="1268280"/>
            <a:chExt cx="2822040" cy="505080"/>
          </a:xfrm>
        </p:grpSpPr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5423040" y="1268280"/>
                  <a:ext cx="18298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;</m:t>
                      </m:r>
                      <m:r>
                        <m:t xml:space="preserve">c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8"/>
                <p:cNvSpPr txBox="1"/>
                <p:nvPr/>
              </p:nvSpPr>
              <p:spPr>
                <a:xfrm>
                  <a:off x="7223760" y="1268280"/>
                  <a:ext cx="1021320" cy="44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Rectangle 9"/>
          <p:cNvSpPr/>
          <p:nvPr/>
        </p:nvSpPr>
        <p:spPr>
          <a:xfrm>
            <a:off x="1116000" y="1773360"/>
            <a:ext cx="8028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orec pro kořeny s diskriminantem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1116000" y="2565360"/>
            <a:ext cx="8028000" cy="3895920"/>
            <a:chOff x="1116000" y="2565360"/>
            <a:chExt cx="8028000" cy="3895920"/>
          </a:xfrm>
        </p:grpSpPr>
        <p:sp>
          <p:nvSpPr>
            <p:cNvPr id="148" name="Rectangle 12"/>
            <p:cNvSpPr/>
            <p:nvPr/>
          </p:nvSpPr>
          <p:spPr>
            <a:xfrm>
              <a:off x="1116000" y="2565360"/>
              <a:ext cx="80280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35568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 = 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b</a:t>
              </a:r>
              <a:r>
                <a:rPr b="0" lang="cs-CZ" sz="3200" spc="-1" strike="noStrike" u="sng" baseline="30000">
                  <a:solidFill>
                    <a:srgbClr val="ffff00"/>
                  </a:solidFill>
                  <a:uFillTx/>
                  <a:latin typeface="Times New Roman"/>
                </a:rPr>
                <a:t>2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– 4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1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g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různé reálné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cs-CZ" sz="32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 dvojnás. reálný kořen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kompl. sdruž.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3"/>
                <p:cNvSpPr txBox="1"/>
                <p:nvPr/>
              </p:nvSpPr>
              <p:spPr>
                <a:xfrm>
                  <a:off x="6659640" y="3141720"/>
                  <a:ext cx="22320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6"/>
                <p:cNvSpPr txBox="1"/>
                <p:nvPr/>
              </p:nvSpPr>
              <p:spPr>
                <a:xfrm>
                  <a:off x="6804000" y="4365720"/>
                  <a:ext cx="14414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9"/>
                <p:cNvSpPr txBox="1"/>
                <p:nvPr/>
              </p:nvSpPr>
              <p:spPr>
                <a:xfrm>
                  <a:off x="6718320" y="5445000"/>
                  <a:ext cx="242568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042920" y="836640"/>
                <a:ext cx="2881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0"/>
              <p:cNvSpPr txBox="1"/>
              <p:nvPr/>
            </p:nvSpPr>
            <p:spPr>
              <a:xfrm>
                <a:off x="6848640" y="1031760"/>
                <a:ext cx="196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4111560" y="1031760"/>
                <a:ext cx="212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2"/>
              <p:cNvSpPr txBox="1"/>
              <p:nvPr/>
            </p:nvSpPr>
            <p:spPr>
              <a:xfrm>
                <a:off x="2195640" y="1844640"/>
                <a:ext cx="306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187280" y="2492280"/>
                <a:ext cx="403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3419640" y="3068640"/>
                <a:ext cx="1819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6"/>
              <p:cNvSpPr txBox="1"/>
              <p:nvPr/>
            </p:nvSpPr>
            <p:spPr>
              <a:xfrm>
                <a:off x="3708360" y="3716280"/>
                <a:ext cx="1486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7"/>
              <p:cNvSpPr txBox="1"/>
              <p:nvPr/>
            </p:nvSpPr>
            <p:spPr>
              <a:xfrm>
                <a:off x="4211640" y="4292640"/>
                <a:ext cx="1212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8"/>
              <p:cNvSpPr txBox="1"/>
              <p:nvPr/>
            </p:nvSpPr>
            <p:spPr>
              <a:xfrm>
                <a:off x="4211640" y="4941720"/>
                <a:ext cx="124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9"/>
              <p:cNvSpPr txBox="1"/>
              <p:nvPr/>
            </p:nvSpPr>
            <p:spPr>
              <a:xfrm>
                <a:off x="4284720" y="5516640"/>
                <a:ext cx="103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0"/>
              <p:cNvSpPr txBox="1"/>
              <p:nvPr/>
            </p:nvSpPr>
            <p:spPr>
              <a:xfrm>
                <a:off x="4427640" y="6140520"/>
                <a:ext cx="1154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900000" y="333360"/>
                <a:ext cx="321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6962760" y="1384200"/>
                <a:ext cx="1938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4587840" y="592200"/>
                <a:ext cx="3360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258920" y="2565360"/>
                <a:ext cx="2335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0"/>
              <p:cNvSpPr txBox="1"/>
              <p:nvPr/>
            </p:nvSpPr>
            <p:spPr>
              <a:xfrm>
                <a:off x="5003640" y="2709720"/>
                <a:ext cx="3548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3"/>
              <p:cNvSpPr txBox="1"/>
              <p:nvPr/>
            </p:nvSpPr>
            <p:spPr>
              <a:xfrm>
                <a:off x="4643280" y="3284640"/>
                <a:ext cx="2940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4"/>
              <p:cNvSpPr txBox="1"/>
              <p:nvPr/>
            </p:nvSpPr>
            <p:spPr>
              <a:xfrm>
                <a:off x="1403280" y="4149720"/>
                <a:ext cx="2355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5"/>
              <p:cNvSpPr txBox="1"/>
              <p:nvPr/>
            </p:nvSpPr>
            <p:spPr>
              <a:xfrm>
                <a:off x="1403280" y="5229360"/>
                <a:ext cx="226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7"/>
              <p:cNvSpPr txBox="1"/>
              <p:nvPr/>
            </p:nvSpPr>
            <p:spPr>
              <a:xfrm>
                <a:off x="1403280" y="1773360"/>
                <a:ext cx="260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971640" y="189000"/>
                <a:ext cx="3671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556000" y="3213000"/>
                <a:ext cx="36925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4871880" y="417600"/>
                <a:ext cx="339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708360" y="5084640"/>
                <a:ext cx="1335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1187280" y="4460760"/>
                <a:ext cx="497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1"/>
              <p:cNvSpPr txBox="1"/>
              <p:nvPr/>
            </p:nvSpPr>
            <p:spPr>
              <a:xfrm>
                <a:off x="3492360" y="5661000"/>
                <a:ext cx="1000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2"/>
              <p:cNvSpPr txBox="1"/>
              <p:nvPr/>
            </p:nvSpPr>
            <p:spPr>
              <a:xfrm>
                <a:off x="3635280" y="6162840"/>
                <a:ext cx="8492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3"/>
              <p:cNvSpPr txBox="1"/>
              <p:nvPr/>
            </p:nvSpPr>
            <p:spPr>
              <a:xfrm>
                <a:off x="3011400" y="1324080"/>
                <a:ext cx="221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5"/>
              <p:cNvSpPr txBox="1"/>
              <p:nvPr/>
            </p:nvSpPr>
            <p:spPr>
              <a:xfrm>
                <a:off x="5172120" y="1755720"/>
                <a:ext cx="243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5316480" y="2259000"/>
                <a:ext cx="3414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7"/>
              <p:cNvSpPr txBox="1"/>
              <p:nvPr/>
            </p:nvSpPr>
            <p:spPr>
              <a:xfrm>
                <a:off x="5459400" y="1395360"/>
                <a:ext cx="345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7" name="Object 15"/>
              <p:cNvSpPr txBox="1"/>
              <p:nvPr/>
            </p:nvSpPr>
            <p:spPr>
              <a:xfrm>
                <a:off x="1187280" y="549360"/>
                <a:ext cx="2943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6"/>
              <p:cNvSpPr txBox="1"/>
              <p:nvPr/>
            </p:nvSpPr>
            <p:spPr>
              <a:xfrm>
                <a:off x="1187280" y="2494080"/>
                <a:ext cx="3094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7"/>
              <p:cNvSpPr txBox="1"/>
              <p:nvPr/>
            </p:nvSpPr>
            <p:spPr>
              <a:xfrm>
                <a:off x="1187280" y="4508640"/>
                <a:ext cx="2913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" name="Group 19"/>
          <p:cNvGrpSpPr/>
          <p:nvPr/>
        </p:nvGrpSpPr>
        <p:grpSpPr>
          <a:xfrm>
            <a:off x="5651640" y="693720"/>
            <a:ext cx="2160360" cy="5543640"/>
            <a:chOff x="5651640" y="693720"/>
            <a:chExt cx="2160360" cy="5543640"/>
          </a:xfrm>
        </p:grpSpPr>
        <mc:AlternateContent>
          <mc:Choice xmlns:a14="http://schemas.microsoft.com/office/drawing/2010/main" Requires="a14">
            <p:sp>
              <p:nvSpPr>
                <p:cNvPr id="431" name="Object 9"/>
                <p:cNvSpPr txBox="1"/>
                <p:nvPr/>
              </p:nvSpPr>
              <p:spPr>
                <a:xfrm>
                  <a:off x="5724360" y="693720"/>
                  <a:ext cx="1190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0"/>
                <p:cNvSpPr txBox="1"/>
                <p:nvPr/>
              </p:nvSpPr>
              <p:spPr>
                <a:xfrm>
                  <a:off x="5796000" y="2709720"/>
                  <a:ext cx="188892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,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18"/>
                <p:cNvSpPr txBox="1"/>
                <p:nvPr/>
              </p:nvSpPr>
              <p:spPr>
                <a:xfrm>
                  <a:off x="5651640" y="4653000"/>
                  <a:ext cx="21603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hodněte jaké kořeny má daná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116000" y="907920"/>
                <a:ext cx="2427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1547640" y="1557360"/>
                <a:ext cx="230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643280" y="1700280"/>
                <a:ext cx="2882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1476360" y="220500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16000" y="3068640"/>
                <a:ext cx="266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619280" y="3789360"/>
                <a:ext cx="2732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859280" y="3860640"/>
                <a:ext cx="3672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9"/>
          <p:cNvSpPr/>
          <p:nvPr/>
        </p:nvSpPr>
        <p:spPr>
          <a:xfrm>
            <a:off x="1547640" y="4365720"/>
            <a:ext cx="75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různé reál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1116000" y="5372280"/>
                <a:ext cx="3125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4873680" y="5445000"/>
                <a:ext cx="2852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22"/>
          <p:cNvSpPr/>
          <p:nvPr/>
        </p:nvSpPr>
        <p:spPr>
          <a:xfrm>
            <a:off x="1476360" y="59500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116000" y="189000"/>
                <a:ext cx="558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5292720" y="1484280"/>
                <a:ext cx="3457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1403280" y="765000"/>
                <a:ext cx="30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1476360" y="19162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1187280" y="2708280"/>
                <a:ext cx="3760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5364000" y="3357720"/>
                <a:ext cx="294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1692360" y="3357720"/>
                <a:ext cx="2670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1476360" y="386064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116000" y="4797360"/>
                <a:ext cx="5005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0"/>
              <p:cNvSpPr txBox="1"/>
              <p:nvPr/>
            </p:nvSpPr>
            <p:spPr>
              <a:xfrm>
                <a:off x="5435640" y="5589720"/>
                <a:ext cx="312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1547640" y="5516640"/>
                <a:ext cx="267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1476360" y="613872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1547640" y="14130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Ryze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42920" y="1413000"/>
            <a:ext cx="81010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úplná kvadratická rov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lineárního členu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5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eálná čísla, z nichž jedno je vždy nul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5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absolutního členu (např.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9 =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vždy dvě opačná čísl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;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hou to být i komplexně sdružená čísla: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i, 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22560" y="1125360"/>
            <a:ext cx="1440" cy="316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ryz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116000" y="1341360"/>
                <a:ext cx="2031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50920" y="4292640"/>
                <a:ext cx="1092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195640" y="5011560"/>
                <a:ext cx="971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340000" y="5732640"/>
                <a:ext cx="1062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5364000" y="4365720"/>
                <a:ext cx="2548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5"/>
              <p:cNvSpPr txBox="1"/>
              <p:nvPr/>
            </p:nvSpPr>
            <p:spPr>
              <a:xfrm>
                <a:off x="7091280" y="4941720"/>
                <a:ext cx="106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7" name="Rectangle 13"/>
          <p:cNvSpPr/>
          <p:nvPr/>
        </p:nvSpPr>
        <p:spPr>
          <a:xfrm>
            <a:off x="3348000" y="191628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stupy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116000" y="2565360"/>
            <a:ext cx="33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) osamostatníme kvadratický člen a rovnici odmocníme (nezapomeňte na absolutní hodnotu neznámé – jedná se o </a:t>
            </a:r>
            <a:r>
              <a:rPr b="0" lang="en-US" sz="2000" spc="-1" strike="noStrike" u="sng">
                <a:solidFill>
                  <a:srgbClr val="dddddd"/>
                </a:solidFill>
                <a:uFillTx/>
                <a:latin typeface="Times New Roman"/>
              </a:rPr>
              <a:t>sudou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odmocninu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5364000" y="256536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b) použijeme k rozkladu na součin algebraický vzorec: (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)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060640"/>
            <a:ext cx="28908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2060640"/>
            <a:ext cx="388800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635280" y="5950080"/>
            <a:ext cx="550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va postupy řešení, výsledek ale musí být stejný!!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87280" y="692280"/>
                <a:ext cx="2063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124000" y="1628640"/>
                <a:ext cx="109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195640" y="2637000"/>
                <a:ext cx="12445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2340000" y="3716280"/>
                <a:ext cx="1365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156360" y="765000"/>
                <a:ext cx="160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788000" y="1773360"/>
                <a:ext cx="300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6948360" y="2708280"/>
                <a:ext cx="1365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70000" y="477720"/>
                <a:ext cx="2214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119320" y="141300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413080" y="3357720"/>
                <a:ext cx="1306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2484360" y="458136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340000" y="2278080"/>
                <a:ext cx="1152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6372360" y="549360"/>
                <a:ext cx="1758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6516720" y="1413000"/>
                <a:ext cx="1668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4716360" y="2421000"/>
                <a:ext cx="3457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7308720" y="386064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07Z</dcterms:modified>
  <cp:revision>294</cp:revision>
  <dc:subject/>
  <dc:title>KČ</dc:title>
</cp:coreProperties>
</file>