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1B22-62B4-48FC-936B-46F3446A7FB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6486-9560-4A55-A123-D748738406B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14D6-CC17-4B7C-A28A-1F1D15219F5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DC10-3131-4D98-AD24-2718038D3DD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9E7E-4412-4BAF-B053-D3536C9ACE3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A23E-344D-4DD8-A687-A87D6F4EE71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C019-B21E-4CEC-8A25-563B5821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20A-9840-484C-ADAA-288F60DD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2BC0-CBBC-449D-8FA7-C466F060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36B-C164-488A-B54D-46B646BC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7A0F-3DB1-4564-8568-050D127E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7D6A-A8F4-43BD-848E-7122C1B2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A589-6BC1-492C-AE19-017667E3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4A9D-C6D4-4AA7-A72A-0BA9C396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DD10-4AA8-42FF-9CE8-3B2DE716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CEA3-7C02-4391-BB33-2B7BFEFC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5BD4-1D3E-4AF3-9DA4-AA1BAB1A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0DB-669D-4AFE-931C-6F930F9F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6D86-EC2B-4C9D-9977-53B87420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44DE-AD22-427F-99C5-6A05E086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8B73-2B3D-4FE8-865A-63D4DD8D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B71C-19FC-4908-B4C2-1B6F89D2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79CC-48DE-4367-9A2C-9F40A558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EEDB-35FB-4BDA-9D07-1CE4D8A3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5992-5676-44EF-8558-1776D3F8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6F9A-8321-4A53-9E7A-CA9B37DD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F244-E4A9-4EE9-B35B-B1801304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918-ABCA-412D-A7C8-038B0F0D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672A-A839-4AAA-A286-F5D77CE9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443C-018F-47F4-B519-6D1634C7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AE66-7490-464C-B348-CF526008F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56A5-466E-4BB6-A87B-0D80E7726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58920" y="260280"/>
                <a:ext cx="178740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258920" y="1773360"/>
                <a:ext cx="16923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258920" y="2924280"/>
                <a:ext cx="26636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258920" y="4292640"/>
                <a:ext cx="31320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58920" y="5589720"/>
                <a:ext cx="48862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03" name=""/>
          <p:cNvGrpSpPr/>
          <p:nvPr/>
        </p:nvGrpSpPr>
        <p:grpSpPr>
          <a:xfrm>
            <a:off x="7093080" y="692280"/>
            <a:ext cx="1317600" cy="5924520"/>
            <a:chOff x="7093080" y="692280"/>
            <a:chExt cx="1317600" cy="5924520"/>
          </a:xfrm>
        </p:grpSpPr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7380360" y="692280"/>
                  <a:ext cx="19692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7236000" y="1557360"/>
                  <a:ext cx="706320" cy="95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7093080" y="2924280"/>
                  <a:ext cx="1217520" cy="95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7093080" y="4292640"/>
                  <a:ext cx="1245960" cy="95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7164360" y="5661000"/>
                  <a:ext cx="1246320" cy="95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042920" y="1484280"/>
            <a:ext cx="78501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3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tak, aby KČ mělo reálnou složku kladnou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87280" y="260280"/>
                <a:ext cx="34149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187280" y="1484280"/>
                <a:ext cx="294516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87280" y="2708280"/>
                <a:ext cx="29131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187280" y="3789360"/>
                <a:ext cx="3195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187280" y="4869000"/>
                <a:ext cx="366588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258920" y="5950080"/>
                <a:ext cx="2600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6" name=""/>
          <p:cNvGrpSpPr/>
          <p:nvPr/>
        </p:nvGrpSpPr>
        <p:grpSpPr>
          <a:xfrm>
            <a:off x="5435640" y="476280"/>
            <a:ext cx="3708360" cy="5948280"/>
            <a:chOff x="5435640" y="476280"/>
            <a:chExt cx="3708360" cy="5948280"/>
          </a:xfrm>
        </p:grpSpPr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5435640" y="476280"/>
                  <a:ext cx="134604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5435640" y="1557360"/>
                  <a:ext cx="11588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5481720" y="2637000"/>
                  <a:ext cx="3662280" cy="64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e>
                      </m:d>
                      <m:r>
                        <m:t xml:space="preserve">∪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  <m:r>
                            <m:t xml:space="preserve">;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5508720" y="3789360"/>
                  <a:ext cx="175392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R</m:t>
                      </m:r>
                      <m:r>
                        <m:t xml:space="preserve">−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5508720" y="4581360"/>
                  <a:ext cx="3255840" cy="115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∪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5580000" y="5950080"/>
                  <a:ext cx="100188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42920" y="1484280"/>
            <a:ext cx="78501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4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tak, aby KČ mělo imaginární složku zápornou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187280" y="549360"/>
                <a:ext cx="28512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187280" y="1628640"/>
                <a:ext cx="39466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187280" y="3213000"/>
                <a:ext cx="26942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187280" y="4437000"/>
                <a:ext cx="34783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171440" y="5661000"/>
                <a:ext cx="36975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9" name=""/>
          <p:cNvGrpSpPr/>
          <p:nvPr/>
        </p:nvGrpSpPr>
        <p:grpSpPr>
          <a:xfrm>
            <a:off x="5342040" y="549360"/>
            <a:ext cx="3801960" cy="5689440"/>
            <a:chOff x="5342040" y="549360"/>
            <a:chExt cx="3801960" cy="5689440"/>
          </a:xfrm>
        </p:grpSpPr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5342040" y="549360"/>
                  <a:ext cx="153360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5</m:t>
                          </m:r>
                          <m:r>
                            <m:t xml:space="preserve">;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5364000" y="1773360"/>
                  <a:ext cx="200376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5508720" y="5661000"/>
                  <a:ext cx="162720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33" name=""/>
            <p:cNvSpPr/>
            <p:nvPr/>
          </p:nvSpPr>
          <p:spPr>
            <a:xfrm>
              <a:off x="5364000" y="3068640"/>
              <a:ext cx="378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20000"/>
                </a:lnSpc>
                <a:tabLst>
                  <a:tab algn="l" pos="0"/>
                  <a:tab algn="l" pos="1351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úloha nemá řešení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5435640" y="4437000"/>
                  <a:ext cx="300492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∪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042920" y="1484280"/>
            <a:ext cx="81010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5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tak, aby KČ mělo reálnou složku zápornou a současně imaginární složku nezápornou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187280" y="620640"/>
                <a:ext cx="2883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187280" y="1628640"/>
                <a:ext cx="379116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187280" y="3213000"/>
                <a:ext cx="3321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187280" y="4437000"/>
                <a:ext cx="31975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187280" y="5445000"/>
                <a:ext cx="466884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1" name=""/>
          <p:cNvGrpSpPr/>
          <p:nvPr/>
        </p:nvGrpSpPr>
        <p:grpSpPr>
          <a:xfrm>
            <a:off x="5232240" y="498600"/>
            <a:ext cx="3911760" cy="5771880"/>
            <a:chOff x="5232240" y="498600"/>
            <a:chExt cx="3911760" cy="5771880"/>
          </a:xfrm>
        </p:grpSpPr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5232240" y="498600"/>
                  <a:ext cx="175284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⟨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6170760" y="5589720"/>
                  <a:ext cx="297324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;</m:t>
                      </m:r>
                      <m:r>
                        <m:t xml:space="preserve">2</m:t>
                      </m:r>
                      <m:r>
                        <m:t xml:space="preserve">⟩</m:t>
                      </m:r>
                      <m:r>
                        <m:t xml:space="preserve">∪</m:t>
                      </m:r>
                      <m:r>
                        <m:t xml:space="preserve">⟨</m:t>
                      </m:r>
                      <m:r>
                        <m:t xml:space="preserve">3</m:t>
                      </m:r>
                      <m:r>
                        <m:t xml:space="preserve">;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5364000" y="3068640"/>
              <a:ext cx="378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20000"/>
                </a:lnSpc>
                <a:tabLst>
                  <a:tab algn="l" pos="0"/>
                  <a:tab algn="l" pos="1351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úloha nemá řešení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5292720" y="1557360"/>
                  <a:ext cx="178452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⟨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5292720" y="4365720"/>
                  <a:ext cx="175248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⟨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42920" y="1484280"/>
            <a:ext cx="81010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6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tak, aby KČ bylo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) ryze imaginární,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dddddd"/>
                </a:solidFill>
                <a:latin typeface="Symbol"/>
                <a:ea typeface="Symbol"/>
              </a:rPr>
              <a:t>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) reálné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03480" y="620640"/>
                <a:ext cx="44481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187280" y="2205000"/>
                <a:ext cx="49183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187280" y="3645000"/>
                <a:ext cx="36957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258920" y="5157720"/>
                <a:ext cx="43545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2" name=""/>
          <p:cNvGrpSpPr/>
          <p:nvPr/>
        </p:nvGrpSpPr>
        <p:grpSpPr>
          <a:xfrm>
            <a:off x="6746760" y="620640"/>
            <a:ext cx="1936800" cy="5837400"/>
            <a:chOff x="6746760" y="620640"/>
            <a:chExt cx="1936800" cy="5837400"/>
          </a:xfrm>
        </p:grpSpPr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6775560" y="620640"/>
                  <a:ext cx="187956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±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β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6761160" y="2205000"/>
                  <a:ext cx="19080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 2</m:t>
                          </m:r>
                        </m:e>
                        <m:e>
                          <m:r>
                            <m:t xml:space="preserve">β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 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6746760" y="3789360"/>
                  <a:ext cx="16146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β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6775560" y="5373720"/>
                  <a:ext cx="19080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 0</m:t>
                          </m:r>
                        </m:e>
                        <m:e>
                          <m:r>
                            <m:t xml:space="preserve">β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16000" y="234936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7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Pro která reálná čísla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x, y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platí rovnost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46120"/>
          <a:ext cx="7705440" cy="5315040"/>
        </p:xfrm>
        <a:graphic>
          <a:graphicData uri="http://schemas.openxmlformats.org/drawingml/2006/table">
            <a:tbl>
              <a:tblPr/>
              <a:tblGrid>
                <a:gridCol w="2834640"/>
                <a:gridCol w="487080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vičení - algebraický tvar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říklady (zadání a výsledky), které jsou vybrány průřezově z celé kapitol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pis a znázornění komplexního čísla; Reálná a imaginární část komplexního čísla; Číslo opačné a komplexně sdružené ke komplexnímu číslu; Vzdálenost komplexního čísla od počátku; Početní úkony s komplexními čísly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187280" y="692280"/>
                <a:ext cx="37594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187280" y="1916280"/>
                <a:ext cx="4480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187280" y="3213000"/>
                <a:ext cx="40420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187280" y="4508640"/>
                <a:ext cx="73947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2" name=""/>
          <p:cNvGrpSpPr/>
          <p:nvPr/>
        </p:nvGrpSpPr>
        <p:grpSpPr>
          <a:xfrm>
            <a:off x="6877080" y="620640"/>
            <a:ext cx="1166760" cy="5692680"/>
            <a:chOff x="6877080" y="620640"/>
            <a:chExt cx="1166760" cy="5692680"/>
          </a:xfrm>
        </p:grpSpPr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6877080" y="620640"/>
                  <a:ext cx="93816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6948360" y="1916280"/>
                  <a:ext cx="109548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6948360" y="3213000"/>
                  <a:ext cx="93996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7020000" y="5157720"/>
                  <a:ext cx="90792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;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116000" y="765000"/>
                <a:ext cx="5450040" cy="5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y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yi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187280" y="2421000"/>
                <a:ext cx="4040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y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116000" y="4437000"/>
                <a:ext cx="617220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0" name=""/>
          <p:cNvGrpSpPr/>
          <p:nvPr/>
        </p:nvGrpSpPr>
        <p:grpSpPr>
          <a:xfrm>
            <a:off x="7236000" y="1197000"/>
            <a:ext cx="1282680" cy="4970520"/>
            <a:chOff x="7236000" y="1197000"/>
            <a:chExt cx="1282680" cy="4970520"/>
          </a:xfrm>
        </p:grpSpPr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7236000" y="1197000"/>
                  <a:ext cx="96984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±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7236000" y="2852640"/>
                  <a:ext cx="1282680" cy="115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  <m:r>
                            <m:t xml:space="preserve">;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7308720" y="5589720"/>
                  <a:ext cx="93996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8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absolutní hodnotu KČ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187280" y="404640"/>
                <a:ext cx="18162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187280" y="1844640"/>
                <a:ext cx="1785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187280" y="3141720"/>
                <a:ext cx="4449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187280" y="4365720"/>
                <a:ext cx="419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258920" y="5373720"/>
                <a:ext cx="2851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80" name=""/>
          <p:cNvGrpSpPr/>
          <p:nvPr/>
        </p:nvGrpSpPr>
        <p:grpSpPr>
          <a:xfrm>
            <a:off x="6372360" y="333360"/>
            <a:ext cx="1627200" cy="5897520"/>
            <a:chOff x="6372360" y="333360"/>
            <a:chExt cx="1627200" cy="5897520"/>
          </a:xfrm>
        </p:grpSpPr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6372360" y="333360"/>
                  <a:ext cx="131436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6372360" y="1844640"/>
                  <a:ext cx="125244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6372360" y="3068640"/>
                  <a:ext cx="159696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6372360" y="4221000"/>
                  <a:ext cx="1627200" cy="71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5" name=""/>
                <p:cNvSpPr txBox="1"/>
                <p:nvPr/>
              </p:nvSpPr>
              <p:spPr>
                <a:xfrm>
                  <a:off x="6443640" y="5516640"/>
                  <a:ext cx="125244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042920" y="234936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9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KČ opačné a komplexně sdružené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187280" y="620640"/>
                <a:ext cx="40071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258920" y="2492280"/>
                <a:ext cx="29448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263600" y="4581360"/>
                <a:ext cx="269568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0" name=""/>
          <p:cNvGrpSpPr/>
          <p:nvPr/>
        </p:nvGrpSpPr>
        <p:grpSpPr>
          <a:xfrm>
            <a:off x="6084720" y="620640"/>
            <a:ext cx="1971720" cy="5192640"/>
            <a:chOff x="6084720" y="620640"/>
            <a:chExt cx="1971720" cy="5192640"/>
          </a:xfrm>
        </p:grpSpPr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6084720" y="620640"/>
                  <a:ext cx="1971720" cy="10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i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6084720" y="2637000"/>
                  <a:ext cx="1784520" cy="10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7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6227640" y="4724280"/>
                  <a:ext cx="1503360" cy="10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i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187280" y="1125360"/>
                <a:ext cx="4418280" cy="5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87280" y="3284640"/>
                <a:ext cx="260064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6084720" y="1197000"/>
            <a:ext cx="2294280" cy="4265640"/>
            <a:chOff x="6084720" y="1197000"/>
            <a:chExt cx="2294280" cy="4265640"/>
          </a:xfrm>
        </p:grpSpPr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6156360" y="1197000"/>
                  <a:ext cx="2222640" cy="10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t xml:space="preserve">+</m:t>
                          </m:r>
                          <m:r>
                            <m:t xml:space="preserve">7</m:t>
                          </m:r>
                          <m:r>
                            <m:t xml:space="preserve">i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t xml:space="preserve">+</m:t>
                          </m:r>
                          <m:r>
                            <m:t xml:space="preserve">7</m:t>
                          </m:r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6084720" y="3284640"/>
                  <a:ext cx="2192400" cy="21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i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042920" y="234936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10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tak, aby KČ byla komplexní jednotka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258920" y="692280"/>
                <a:ext cx="20970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258920" y="2708280"/>
                <a:ext cx="20988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332000" y="4508640"/>
                <a:ext cx="225432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3" name=""/>
          <p:cNvGrpSpPr/>
          <p:nvPr/>
        </p:nvGrpSpPr>
        <p:grpSpPr>
          <a:xfrm>
            <a:off x="5364000" y="907920"/>
            <a:ext cx="3780000" cy="4365720"/>
            <a:chOff x="5364000" y="907920"/>
            <a:chExt cx="3780000" cy="4365720"/>
          </a:xfrm>
        </p:grpSpPr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5435640" y="907920"/>
                  <a:ext cx="1469880" cy="57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05" name=""/>
            <p:cNvSpPr/>
            <p:nvPr/>
          </p:nvSpPr>
          <p:spPr>
            <a:xfrm>
              <a:off x="5364000" y="2852640"/>
              <a:ext cx="378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20000"/>
                </a:lnSpc>
                <a:tabLst>
                  <a:tab algn="l" pos="0"/>
                  <a:tab algn="l" pos="1351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úloha nemá řešení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5508720" y="4797360"/>
                  <a:ext cx="11570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63416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Příklady na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19280" y="4114800"/>
            <a:ext cx="752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Algebraický tvar komplexního čísla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42920" y="1197000"/>
            <a:ext cx="8101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Zapište dané KČ v AT,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sestrojte jeho obraz v Gaussově rovině,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vypočtěte jeho vzdálenost od počátku, určete KČ opačné,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určete KČ komplexně sdružené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2987640" y="1312920"/>
            <a:ext cx="5818320" cy="1569960"/>
            <a:chOff x="2987640" y="1312920"/>
            <a:chExt cx="5818320" cy="156996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3272040" y="1412640"/>
                  <a:ext cx="132228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7535880" y="1312920"/>
                  <a:ext cx="127008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5705640" y="1441440"/>
                  <a:ext cx="89856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7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987640" y="2421000"/>
                  <a:ext cx="174636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5776920" y="2449440"/>
                  <a:ext cx="132228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187280" y="3500280"/>
                <a:ext cx="30704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51" name=""/>
          <p:cNvGrpSpPr/>
          <p:nvPr/>
        </p:nvGrpSpPr>
        <p:grpSpPr>
          <a:xfrm>
            <a:off x="2987640" y="4581360"/>
            <a:ext cx="5127480" cy="1974960"/>
            <a:chOff x="2987640" y="4581360"/>
            <a:chExt cx="5127480" cy="1974960"/>
          </a:xfrm>
        </p:grpSpPr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3071520" y="4654440"/>
                  <a:ext cx="1694160" cy="89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6897600" y="4581360"/>
                  <a:ext cx="1217520" cy="97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5209920" y="4654440"/>
                  <a:ext cx="1428840" cy="97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2987640" y="5662440"/>
                  <a:ext cx="171900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5333760" y="5662440"/>
                  <a:ext cx="169380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187280" y="404640"/>
                <a:ext cx="510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z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187280" y="333360"/>
                <a:ext cx="19432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9" name=""/>
          <p:cNvGrpSpPr/>
          <p:nvPr/>
        </p:nvGrpSpPr>
        <p:grpSpPr>
          <a:xfrm>
            <a:off x="3132000" y="1528920"/>
            <a:ext cx="5592960" cy="1282680"/>
            <a:chOff x="3132000" y="1528920"/>
            <a:chExt cx="5592960" cy="1282680"/>
          </a:xfrm>
        </p:grpSpPr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3254400" y="1628640"/>
                  <a:ext cx="134928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7610400" y="1528920"/>
                  <a:ext cx="111456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5595840" y="1657440"/>
                  <a:ext cx="111132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3132000" y="2349360"/>
                  <a:ext cx="1403640" cy="46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737320" y="2378160"/>
                  <a:ext cx="134928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258920" y="3645000"/>
                <a:ext cx="18493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6" name=""/>
          <p:cNvGrpSpPr/>
          <p:nvPr/>
        </p:nvGrpSpPr>
        <p:grpSpPr>
          <a:xfrm>
            <a:off x="3132000" y="4840200"/>
            <a:ext cx="4929480" cy="1282680"/>
            <a:chOff x="3132000" y="4840200"/>
            <a:chExt cx="4929480" cy="1282680"/>
          </a:xfrm>
        </p:grpSpPr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3176640" y="4941720"/>
                  <a:ext cx="148284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6950160" y="4840200"/>
                  <a:ext cx="111132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5473800" y="4970520"/>
                  <a:ext cx="90000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3132000" y="5661000"/>
                  <a:ext cx="150840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5478480" y="5689440"/>
                  <a:ext cx="1482840" cy="40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187280" y="404640"/>
                <a:ext cx="41356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3000240" y="1528920"/>
            <a:ext cx="5870880" cy="1282680"/>
            <a:chOff x="3000240" y="1528920"/>
            <a:chExt cx="5870880" cy="1282680"/>
          </a:xfrm>
        </p:grpSpPr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3122640" y="1628640"/>
                  <a:ext cx="16146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7464600" y="1528920"/>
                  <a:ext cx="140652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4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5516640" y="1657440"/>
                  <a:ext cx="1270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3000240" y="2349360"/>
                  <a:ext cx="1668600" cy="46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5605560" y="2378160"/>
                  <a:ext cx="161280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58920" y="3716280"/>
                <a:ext cx="41385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3040200" y="4840200"/>
            <a:ext cx="5180040" cy="1282680"/>
            <a:chOff x="3040200" y="4840200"/>
            <a:chExt cx="5180040" cy="1282680"/>
          </a:xfrm>
        </p:grpSpPr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3097080" y="4941720"/>
                  <a:ext cx="16416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6792840" y="4840200"/>
                  <a:ext cx="142740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49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5381640" y="4970520"/>
                  <a:ext cx="108576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3040200" y="5661000"/>
                  <a:ext cx="169380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5411880" y="5689440"/>
                  <a:ext cx="1616040" cy="40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42920" y="1484280"/>
            <a:ext cx="78501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2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Zapište KČ v AT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116000" y="1341360"/>
                <a:ext cx="667404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042920" y="3068640"/>
                <a:ext cx="679932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116000" y="4869000"/>
                <a:ext cx="281952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6000" y="5734080"/>
                <a:ext cx="3602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91" name=""/>
          <p:cNvGrpSpPr/>
          <p:nvPr/>
        </p:nvGrpSpPr>
        <p:grpSpPr>
          <a:xfrm>
            <a:off x="7164360" y="260280"/>
            <a:ext cx="1812960" cy="6121440"/>
            <a:chOff x="7164360" y="260280"/>
            <a:chExt cx="1812960" cy="6121440"/>
          </a:xfrm>
        </p:grpSpPr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7164360" y="260280"/>
                  <a:ext cx="175248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7451640" y="2492280"/>
                  <a:ext cx="1525680" cy="5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+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7524720" y="4149720"/>
                  <a:ext cx="8208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7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7524720" y="5013360"/>
                  <a:ext cx="6224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7667640" y="5950080"/>
                  <a:ext cx="2826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116000" y="260280"/>
                <a:ext cx="37908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2:33Z</dcterms:modified>
  <cp:revision>298</cp:revision>
  <dc:subject/>
  <dc:title>KČ</dc:title>
</cp:coreProperties>
</file>