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F0EE-5645-451F-B282-0BA3F89ECBD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30E6-E59F-4711-AA2F-DC21E471652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A6EB-13A8-4612-BB80-859D22C4C92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A455-3A61-474D-8430-6FE4345E2FB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ACEC-B483-4EEC-898D-450339FA414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F818-4030-4B0F-A255-B00FD8B0ED1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B7A0-C431-419B-A478-E09F5CC77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D278-F7C7-4A6D-BC0A-F3B77C7C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2E27-592C-4D89-959F-D4CAE96FD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6C16-7B85-48B6-93EB-DAA90A561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EC505-3FFA-47F4-AD71-D31F2B953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C69E-3A27-44C5-BA36-5708B8EE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F365-B944-48A2-BBE6-E9257710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34C9-8B2F-4C0D-B9DE-6526D900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3B0F-D81F-4524-A8A7-02FE2D6F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2C37D-DAC0-4BE7-ADAB-09F3FCA9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23BB-140A-452E-95F2-CEDCAD05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D6A1-3E93-478E-BA3B-55270722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93E1-71CB-4D14-9BCA-5B3B7756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5332-9D95-40B7-8288-DFDAF824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B735-6464-4AEC-9EF5-74E8DB54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4E0B4-FC2A-4151-B5AF-BDA79B406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5053-4272-4565-A218-D7A5FFB5B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0D2F-E63F-422F-88E1-968B10B2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8E66-01C2-425D-B729-D4B7520E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C479-A591-45B3-BA10-44356258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B244-5231-415B-92EF-C48EBC1B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221F-248C-46AB-B7F9-F8B10627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52DC-B1AA-4822-892E-BB5BA832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6B1B-5629-4624-9491-401D3A6B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616C-2CB9-4E43-9364-23E89A910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90DA-7445-492C-9CC9-5FFE400BD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6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9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971640" y="260280"/>
            <a:ext cx="817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20640" indent="-620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2a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KČ reálná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924360" y="333360"/>
            <a:ext cx="521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28040" indent="-428040">
              <a:lnSpc>
                <a:spcPct val="100000"/>
              </a:lnSpc>
              <a:buClr>
                <a:srgbClr val="ffff00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mají pouze reálnou čás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28040" indent="-428040">
              <a:lnSpc>
                <a:spcPct val="100000"/>
              </a:lnSpc>
              <a:buClr>
                <a:srgbClr val="ffff00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brazy leží na reálné ose (osa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042920" y="1773360"/>
            <a:ext cx="5693040" cy="4938480"/>
            <a:chOff x="1042920" y="1773360"/>
            <a:chExt cx="5693040" cy="4938480"/>
          </a:xfrm>
        </p:grpSpPr>
        <p:sp>
          <p:nvSpPr>
            <p:cNvPr id="365" name=""/>
            <p:cNvSpPr/>
            <p:nvPr/>
          </p:nvSpPr>
          <p:spPr>
            <a:xfrm>
              <a:off x="4703760" y="2859120"/>
              <a:ext cx="0" cy="182736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3735360" y="2859120"/>
              <a:ext cx="968400" cy="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89920" y="24163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4643280" y="2803680"/>
              <a:ext cx="120960" cy="110880"/>
              <a:chOff x="4643280" y="2803680"/>
              <a:chExt cx="120960" cy="110880"/>
            </a:xfrm>
          </p:grpSpPr>
          <p:sp>
            <p:nvSpPr>
              <p:cNvPr id="369" name=""/>
              <p:cNvSpPr/>
              <p:nvPr/>
            </p:nvSpPr>
            <p:spPr>
              <a:xfrm>
                <a:off x="4643280" y="2803680"/>
                <a:ext cx="120960" cy="1108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4643280" y="2803680"/>
                <a:ext cx="120960" cy="1108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1042920" y="4686480"/>
              <a:ext cx="5580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3740040" y="1940040"/>
              <a:ext cx="5040" cy="4682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77840" y="1773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19520" y="46292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578120" y="4741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45080" y="2747880"/>
              <a:ext cx="23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78120" y="4741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343160" y="4629240"/>
              <a:ext cx="0" cy="110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822320" y="4629240"/>
              <a:ext cx="0" cy="110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303640" y="4629240"/>
              <a:ext cx="0" cy="110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782800" y="4629240"/>
              <a:ext cx="0" cy="110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63760" y="4629240"/>
              <a:ext cx="0" cy="110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22800" y="4629240"/>
              <a:ext cx="0" cy="110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703760" y="4629240"/>
              <a:ext cx="0" cy="110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183280" y="4629240"/>
              <a:ext cx="0" cy="110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662440" y="4629240"/>
              <a:ext cx="0" cy="110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145200" y="4629240"/>
              <a:ext cx="0" cy="110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3682800" y="6456240"/>
              <a:ext cx="1206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682800" y="6012000"/>
              <a:ext cx="1206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3682800" y="5570640"/>
              <a:ext cx="1206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3682800" y="5129280"/>
              <a:ext cx="1206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3682800" y="4187880"/>
              <a:ext cx="120600" cy="14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3682800" y="3745080"/>
              <a:ext cx="1206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3682800" y="3301920"/>
              <a:ext cx="1206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3682800" y="2416320"/>
              <a:ext cx="120600" cy="14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3682800" y="2859120"/>
              <a:ext cx="1206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057640" y="4741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097880" y="4741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478480" y="4741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016320" y="4741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736800" y="40766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36800" y="3635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736800" y="3192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736800" y="2305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744720" y="634356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744720" y="590220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744720" y="546084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744720" y="501984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092400" y="4740120"/>
              <a:ext cx="61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604960" y="474192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63520" y="474192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585800" y="474192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63520" y="474192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303640" y="3745080"/>
              <a:ext cx="0" cy="93960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303640" y="3745080"/>
              <a:ext cx="1492200" cy="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2242800" y="3689280"/>
              <a:ext cx="120960" cy="109440"/>
              <a:chOff x="2242800" y="3689280"/>
              <a:chExt cx="120960" cy="109440"/>
            </a:xfrm>
          </p:grpSpPr>
          <p:sp>
            <p:nvSpPr>
              <p:cNvPr id="417" name=""/>
              <p:cNvSpPr/>
              <p:nvPr/>
            </p:nvSpPr>
            <p:spPr>
              <a:xfrm>
                <a:off x="2243160" y="368928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2242800" y="368928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2022840" y="3301920"/>
              <a:ext cx="50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343160" y="4686480"/>
              <a:ext cx="0" cy="88416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343160" y="5570640"/>
              <a:ext cx="2392200" cy="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065600" y="5626080"/>
              <a:ext cx="50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1283760" y="5514840"/>
              <a:ext cx="119520" cy="109800"/>
              <a:chOff x="1283760" y="5514840"/>
              <a:chExt cx="119520" cy="109800"/>
            </a:xfrm>
          </p:grpSpPr>
          <p:sp>
            <p:nvSpPr>
              <p:cNvPr id="424" name=""/>
              <p:cNvSpPr/>
              <p:nvPr/>
            </p:nvSpPr>
            <p:spPr>
              <a:xfrm>
                <a:off x="1284120" y="5514840"/>
                <a:ext cx="119160" cy="1098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1283760" y="5514840"/>
                <a:ext cx="119160" cy="1098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5183280" y="4686480"/>
              <a:ext cx="0" cy="132552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745080" y="6012000"/>
              <a:ext cx="1438200" cy="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5124600" y="5958000"/>
              <a:ext cx="118800" cy="109440"/>
              <a:chOff x="5124600" y="5958000"/>
              <a:chExt cx="118800" cy="109440"/>
            </a:xfrm>
          </p:grpSpPr>
          <p:sp>
            <p:nvSpPr>
              <p:cNvPr id="429" name=""/>
              <p:cNvSpPr/>
              <p:nvPr/>
            </p:nvSpPr>
            <p:spPr>
              <a:xfrm>
                <a:off x="5124600" y="5958000"/>
                <a:ext cx="1188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5124600" y="5958000"/>
                <a:ext cx="1188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4896720" y="6068880"/>
              <a:ext cx="52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3682800" y="4130640"/>
              <a:ext cx="120960" cy="109440"/>
              <a:chOff x="3682800" y="4130640"/>
              <a:chExt cx="120960" cy="109440"/>
            </a:xfrm>
          </p:grpSpPr>
          <p:sp>
            <p:nvSpPr>
              <p:cNvPr id="433" name=""/>
              <p:cNvSpPr/>
              <p:nvPr/>
            </p:nvSpPr>
            <p:spPr>
              <a:xfrm>
                <a:off x="3683160" y="413064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>
                <a:off x="3682800" y="413064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435" name=""/>
            <p:cNvSpPr/>
            <p:nvPr/>
          </p:nvSpPr>
          <p:spPr>
            <a:xfrm>
              <a:off x="3227400" y="3965400"/>
              <a:ext cx="48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6082920" y="4629240"/>
              <a:ext cx="120960" cy="109440"/>
              <a:chOff x="6082920" y="4629240"/>
              <a:chExt cx="120960" cy="109440"/>
            </a:xfrm>
          </p:grpSpPr>
          <p:sp>
            <p:nvSpPr>
              <p:cNvPr id="437" name=""/>
              <p:cNvSpPr/>
              <p:nvPr/>
            </p:nvSpPr>
            <p:spPr>
              <a:xfrm>
                <a:off x="6083280" y="462924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6082920" y="462924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439" name=""/>
            <p:cNvSpPr/>
            <p:nvPr/>
          </p:nvSpPr>
          <p:spPr>
            <a:xfrm>
              <a:off x="5803200" y="4183200"/>
              <a:ext cx="5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223440" y="3079800"/>
              <a:ext cx="52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3682800" y="3246480"/>
              <a:ext cx="120960" cy="109440"/>
              <a:chOff x="3682800" y="3246480"/>
              <a:chExt cx="120960" cy="109440"/>
            </a:xfrm>
          </p:grpSpPr>
          <p:sp>
            <p:nvSpPr>
              <p:cNvPr id="442" name=""/>
              <p:cNvSpPr/>
              <p:nvPr/>
            </p:nvSpPr>
            <p:spPr>
              <a:xfrm>
                <a:off x="3683160" y="324648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>
                <a:off x="3682800" y="324648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2723760" y="4629240"/>
              <a:ext cx="120960" cy="109440"/>
              <a:chOff x="2723760" y="4629240"/>
              <a:chExt cx="120960" cy="109440"/>
            </a:xfrm>
          </p:grpSpPr>
          <p:sp>
            <p:nvSpPr>
              <p:cNvPr id="445" name=""/>
              <p:cNvSpPr/>
              <p:nvPr/>
            </p:nvSpPr>
            <p:spPr>
              <a:xfrm>
                <a:off x="2724120" y="462924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2723760" y="462924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2625120" y="4249800"/>
              <a:ext cx="52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222800" y="4187880"/>
              <a:ext cx="0" cy="55224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3744720" y="4187880"/>
              <a:ext cx="477720" cy="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066920" y="368928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J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4163760" y="4130640"/>
              <a:ext cx="120960" cy="109440"/>
              <a:chOff x="4163760" y="4130640"/>
              <a:chExt cx="120960" cy="109440"/>
            </a:xfrm>
          </p:grpSpPr>
          <p:sp>
            <p:nvSpPr>
              <p:cNvPr id="452" name=""/>
              <p:cNvSpPr/>
              <p:nvPr/>
            </p:nvSpPr>
            <p:spPr>
              <a:xfrm>
                <a:off x="4164120" y="413064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>
                <a:off x="4163760" y="413064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454" name=""/>
            <p:cNvSpPr/>
            <p:nvPr/>
          </p:nvSpPr>
          <p:spPr>
            <a:xfrm>
              <a:off x="3132000" y="4941720"/>
              <a:ext cx="70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3682800" y="5072040"/>
              <a:ext cx="120960" cy="111240"/>
              <a:chOff x="3682800" y="5072040"/>
              <a:chExt cx="120960" cy="111240"/>
            </a:xfrm>
          </p:grpSpPr>
          <p:sp>
            <p:nvSpPr>
              <p:cNvPr id="456" name=""/>
              <p:cNvSpPr/>
              <p:nvPr/>
            </p:nvSpPr>
            <p:spPr>
              <a:xfrm>
                <a:off x="3683160" y="5072040"/>
                <a:ext cx="120600" cy="1112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3682800" y="5072040"/>
                <a:ext cx="120600" cy="1112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2782800" y="2416320"/>
              <a:ext cx="0" cy="226836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782800" y="2416320"/>
              <a:ext cx="952560" cy="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541960" y="1973160"/>
              <a:ext cx="49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461" name=""/>
            <p:cNvGrpSpPr/>
            <p:nvPr/>
          </p:nvGrpSpPr>
          <p:grpSpPr>
            <a:xfrm>
              <a:off x="2723760" y="2360520"/>
              <a:ext cx="120960" cy="109800"/>
              <a:chOff x="2723760" y="2360520"/>
              <a:chExt cx="120960" cy="109800"/>
            </a:xfrm>
          </p:grpSpPr>
          <p:sp>
            <p:nvSpPr>
              <p:cNvPr id="462" name=""/>
              <p:cNvSpPr/>
              <p:nvPr/>
            </p:nvSpPr>
            <p:spPr>
              <a:xfrm>
                <a:off x="2724120" y="2360520"/>
                <a:ext cx="120600" cy="1098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723760" y="2360520"/>
                <a:ext cx="120600" cy="1098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3263760" y="4686480"/>
              <a:ext cx="0" cy="176976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263760" y="6456240"/>
              <a:ext cx="473040" cy="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702880" y="6165720"/>
              <a:ext cx="52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3203280" y="6400800"/>
              <a:ext cx="120960" cy="109440"/>
              <a:chOff x="3203280" y="6400800"/>
              <a:chExt cx="120960" cy="109440"/>
            </a:xfrm>
          </p:grpSpPr>
          <p:sp>
            <p:nvSpPr>
              <p:cNvPr id="468" name=""/>
              <p:cNvSpPr/>
              <p:nvPr/>
            </p:nvSpPr>
            <p:spPr>
              <a:xfrm>
                <a:off x="3203640" y="640080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>
                <a:off x="3203280" y="640080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0" name=""/>
          <p:cNvSpPr/>
          <p:nvPr/>
        </p:nvSpPr>
        <p:spPr>
          <a:xfrm>
            <a:off x="2627280" y="4149720"/>
            <a:ext cx="504720" cy="100800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1008000"/>
              <a:gd name="textAreaBottom" fmla="*/ 983520 h 1008000"/>
            </a:gdLst>
            <a:ahLst/>
            <a:rect l="textAreaLeft" t="textAreaTop" r="textAreaRight" b="textAreaBottom"/>
            <a:pathLst>
              <a:path w="21600" h="43123">
                <a:moveTo>
                  <a:pt x="3600" y="0"/>
                </a:moveTo>
                <a:arcTo wR="3600" hR="3600" stAng="16200000" swAng="-5400000"/>
                <a:lnTo>
                  <a:pt x="0" y="39523"/>
                </a:lnTo>
                <a:arcTo wR="3600" hR="3600" stAng="10800000" swAng="-5400000"/>
                <a:lnTo>
                  <a:pt x="18000" y="431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867280" y="4149720"/>
            <a:ext cx="505080" cy="100800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1008000"/>
              <a:gd name="textAreaBottom" fmla="*/ 983520 h 1008000"/>
            </a:gdLst>
            <a:ahLst/>
            <a:rect l="textAreaLeft" t="textAreaTop" r="textAreaRight" b="textAreaBottom"/>
            <a:pathLst>
              <a:path w="21600" h="43092">
                <a:moveTo>
                  <a:pt x="3600" y="0"/>
                </a:moveTo>
                <a:arcTo wR="3600" hR="3600" stAng="16200000" swAng="-5400000"/>
                <a:lnTo>
                  <a:pt x="0" y="39492"/>
                </a:lnTo>
                <a:arcTo wR="3600" hR="3600" stAng="10800000" swAng="-5400000"/>
                <a:lnTo>
                  <a:pt x="18000" y="430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155600" y="260280"/>
            <a:ext cx="7988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20640" indent="-620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99ff33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 = –2, </a:t>
            </a:r>
            <a:r>
              <a:rPr b="0" i="1" lang="en-US" sz="3200" spc="-1" strike="noStrike">
                <a:solidFill>
                  <a:srgbClr val="99ff33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 = 5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71640" y="765000"/>
            <a:ext cx="817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20640" indent="-620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b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KČ ryze imaginární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219640" y="836640"/>
            <a:ext cx="3924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441360" indent="-441360">
              <a:lnSpc>
                <a:spcPct val="100000"/>
              </a:lnSpc>
              <a:buClr>
                <a:srgbClr val="ffff00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mají pouze imaginární čás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41360" indent="-441360">
              <a:lnSpc>
                <a:spcPct val="100000"/>
              </a:lnSpc>
              <a:buClr>
                <a:srgbClr val="ffff00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brazy leží na imaginární ose (osa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348000" y="4941720"/>
            <a:ext cx="719280" cy="433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348000" y="4005360"/>
            <a:ext cx="719280" cy="433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348000" y="3141720"/>
            <a:ext cx="719280" cy="433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155600" y="765000"/>
            <a:ext cx="7988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20640" indent="-620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033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cc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= –</a:t>
            </a:r>
            <a:r>
              <a:rPr b="0" i="1" lang="en-US" sz="3200" spc="-1" strike="noStrike">
                <a:solidFill>
                  <a:srgbClr val="ffcc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cc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cc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cc00"/>
                </a:solidFill>
                <a:latin typeface="Times New Roman"/>
              </a:rPr>
              <a:t> h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= 3</a:t>
            </a:r>
            <a:r>
              <a:rPr b="0" i="1" lang="en-US" sz="3200" spc="-1" strike="noStrike">
                <a:solidFill>
                  <a:srgbClr val="ffcc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1341360"/>
            <a:ext cx="4572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buClr>
                <a:srgbClr val="ffff00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mají obě části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buClr>
                <a:srgbClr val="ffff00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brazy leží mimo os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427640" y="2421000"/>
            <a:ext cx="504720" cy="64764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647640"/>
              <a:gd name="textAreaBottom" fmla="*/ 623160 h 647640"/>
            </a:gdLst>
            <a:ahLst/>
            <a:rect l="textAreaLeft" t="textAreaTop" r="textAreaRight" b="textAreaBottom"/>
            <a:pathLst>
              <a:path w="21600" h="27712">
                <a:moveTo>
                  <a:pt x="3600" y="0"/>
                </a:moveTo>
                <a:arcTo wR="3600" hR="3600" stAng="16200000" swAng="-5400000"/>
                <a:lnTo>
                  <a:pt x="0" y="24112"/>
                </a:lnTo>
                <a:arcTo wR="3600" hR="3600" stAng="10800000" swAng="-5400000"/>
                <a:lnTo>
                  <a:pt x="18000" y="277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052720" y="3213000"/>
            <a:ext cx="504720" cy="64764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647640"/>
              <a:gd name="textAreaBottom" fmla="*/ 623160 h 647640"/>
            </a:gdLst>
            <a:ahLst/>
            <a:rect l="textAreaLeft" t="textAreaTop" r="textAreaRight" b="textAreaBottom"/>
            <a:pathLst>
              <a:path w="21600" h="27712">
                <a:moveTo>
                  <a:pt x="3600" y="0"/>
                </a:moveTo>
                <a:arcTo wR="3600" hR="3600" stAng="16200000" swAng="-5400000"/>
                <a:lnTo>
                  <a:pt x="0" y="24112"/>
                </a:lnTo>
                <a:arcTo wR="3600" hR="3600" stAng="10800000" swAng="-5400000"/>
                <a:lnTo>
                  <a:pt x="18000" y="277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116000" y="5445000"/>
            <a:ext cx="504720" cy="64800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648000"/>
              <a:gd name="textAreaBottom" fmla="*/ 623520 h 648000"/>
            </a:gdLst>
            <a:ahLst/>
            <a:rect l="textAreaLeft" t="textAreaTop" r="textAreaRight" b="textAreaBottom"/>
            <a:pathLst>
              <a:path w="21600" h="27727">
                <a:moveTo>
                  <a:pt x="3600" y="0"/>
                </a:moveTo>
                <a:arcTo wR="3600" hR="3600" stAng="16200000" swAng="-5400000"/>
                <a:lnTo>
                  <a:pt x="0" y="24127"/>
                </a:lnTo>
                <a:arcTo wR="3600" hR="3600" stAng="10800000" swAng="-5400000"/>
                <a:lnTo>
                  <a:pt x="18000" y="277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932360" y="5877000"/>
            <a:ext cx="504720" cy="64764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647640"/>
              <a:gd name="textAreaBottom" fmla="*/ 623160 h 647640"/>
            </a:gdLst>
            <a:ahLst/>
            <a:rect l="textAreaLeft" t="textAreaTop" r="textAreaRight" b="textAreaBottom"/>
            <a:pathLst>
              <a:path w="21600" h="27712">
                <a:moveTo>
                  <a:pt x="3600" y="0"/>
                </a:moveTo>
                <a:arcTo wR="3600" hR="3600" stAng="16200000" swAng="-5400000"/>
                <a:lnTo>
                  <a:pt x="0" y="24112"/>
                </a:lnTo>
                <a:arcTo wR="3600" hR="3600" stAng="10800000" swAng="-5400000"/>
                <a:lnTo>
                  <a:pt x="18000" y="277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995640" y="3716280"/>
            <a:ext cx="505080" cy="64764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647640"/>
              <a:gd name="textAreaBottom" fmla="*/ 623160 h 647640"/>
            </a:gdLst>
            <a:ahLst/>
            <a:rect l="textAreaLeft" t="textAreaTop" r="textAreaRight" b="textAreaBottom"/>
            <a:pathLst>
              <a:path w="21600" h="27692">
                <a:moveTo>
                  <a:pt x="3600" y="0"/>
                </a:moveTo>
                <a:arcTo wR="3600" hR="3600" stAng="16200000" swAng="-5400000"/>
                <a:lnTo>
                  <a:pt x="0" y="24092"/>
                </a:lnTo>
                <a:arcTo wR="3600" hR="3600" stAng="10800000" swAng="-5400000"/>
                <a:lnTo>
                  <a:pt x="18000" y="276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484360" y="1989000"/>
            <a:ext cx="505080" cy="64800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648000"/>
              <a:gd name="textAreaBottom" fmla="*/ 623520 h 648000"/>
            </a:gdLst>
            <a:ahLst/>
            <a:rect l="textAreaLeft" t="textAreaTop" r="textAreaRight" b="textAreaBottom"/>
            <a:pathLst>
              <a:path w="21600" h="27708">
                <a:moveTo>
                  <a:pt x="3600" y="0"/>
                </a:moveTo>
                <a:arcTo wR="3600" hR="3600" stAng="16200000" swAng="-5400000"/>
                <a:lnTo>
                  <a:pt x="0" y="24108"/>
                </a:lnTo>
                <a:arcTo wR="3600" hR="3600" stAng="10800000" swAng="-5400000"/>
                <a:lnTo>
                  <a:pt x="18000" y="277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771640" y="6165720"/>
            <a:ext cx="649440" cy="503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155600" y="1268280"/>
            <a:ext cx="79884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033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99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 = 2 + 4</a:t>
            </a:r>
            <a:r>
              <a:rPr b="0" i="1" lang="en-US" sz="3200" spc="-1" strike="noStrike">
                <a:solidFill>
                  <a:srgbClr val="ff99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99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 = –3 + 2</a:t>
            </a:r>
            <a:r>
              <a:rPr b="0" i="1" lang="en-US" sz="3200" spc="-1" strike="noStrike">
                <a:solidFill>
                  <a:srgbClr val="ff99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033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99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 = –5 – 2</a:t>
            </a:r>
            <a:r>
              <a:rPr b="0" i="1" lang="en-US" sz="3200" spc="-1" strike="noStrike">
                <a:solidFill>
                  <a:srgbClr val="ff99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99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 = 3 –3</a:t>
            </a:r>
            <a:r>
              <a:rPr b="0" i="1" lang="en-US" sz="3200" spc="-1" strike="noStrike">
                <a:solidFill>
                  <a:srgbClr val="ff99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033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99ff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 = 1 + </a:t>
            </a:r>
            <a:r>
              <a:rPr b="0" i="1" lang="en-US" sz="3200" spc="-1" strike="noStrike">
                <a:solidFill>
                  <a:srgbClr val="ff99ff"/>
                </a:solidFill>
                <a:latin typeface="Times New Roman"/>
              </a:rPr>
              <a:t>i, m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 = –2 + 5</a:t>
            </a:r>
            <a:r>
              <a:rPr b="0" i="1" lang="en-US" sz="3200" spc="-1" strike="noStrike">
                <a:solidFill>
                  <a:srgbClr val="ff99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033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99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 = –1 – 4</a:t>
            </a:r>
            <a:r>
              <a:rPr b="0" i="1" lang="en-US" sz="3200" spc="-1" strike="noStrike">
                <a:solidFill>
                  <a:srgbClr val="ff99ff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971640" y="1268280"/>
            <a:ext cx="817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20640" indent="-620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KČ imaginární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6" dur="2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9" dur="2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2000"/>
                            </p:stCondLst>
                            <p:childTnLst>
                              <p:par>
                                <p:cTn id="6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1000"/>
                            </p:stCondLst>
                            <p:childTnLst>
                              <p:par>
                                <p:cTn id="7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9" dur="2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2" dur="2000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000"/>
                            </p:stCondLst>
                            <p:childTnLst>
                              <p:par>
                                <p:cTn id="7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500"/>
                            </p:stCondLst>
                            <p:childTnLst>
                              <p:par>
                                <p:cTn id="7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3000"/>
                            </p:stCondLst>
                            <p:childTnLst>
                              <p:par>
                                <p:cTn id="7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8" dur="2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1" dur="20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2000"/>
                            </p:stCondLst>
                            <p:childTnLst>
                              <p:par>
                                <p:cTn id="7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799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116000" y="2421000"/>
            <a:ext cx="80280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Určete hodnotu reálného parametru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tak, aby dané KČ 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bylo a) reálné, b) ryze imaginární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1258920" y="1092240"/>
                <a:ext cx="375912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1690560" y="2676600"/>
                <a:ext cx="21304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2889360" y="3119400"/>
                <a:ext cx="103320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5364000" y="2421000"/>
                <a:ext cx="206712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5938920" y="3573360"/>
                <a:ext cx="150336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6515280" y="4216320"/>
                <a:ext cx="9712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1258920" y="981000"/>
                <a:ext cx="360216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5705640" y="2365200"/>
                <a:ext cx="266220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5651640" y="3284640"/>
                <a:ext cx="27255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1692360" y="2276640"/>
                <a:ext cx="203508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2827440" y="3468600"/>
                <a:ext cx="87624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7451640" y="4149720"/>
                <a:ext cx="115884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503" name=""/>
          <p:cNvSpPr/>
          <p:nvPr/>
        </p:nvSpPr>
        <p:spPr>
          <a:xfrm>
            <a:off x="1836720" y="4043520"/>
            <a:ext cx="3382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Úloha nemá řešení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1187280" y="1125360"/>
                <a:ext cx="42292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5487840" y="2349360"/>
                <a:ext cx="222264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1692360" y="2421000"/>
                <a:ext cx="247320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1984320" y="3473280"/>
                <a:ext cx="22208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8" name=""/>
          <p:cNvSpPr/>
          <p:nvPr/>
        </p:nvSpPr>
        <p:spPr>
          <a:xfrm>
            <a:off x="5796000" y="5373720"/>
            <a:ext cx="334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Úloha nemá řešení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2013120" y="4292640"/>
                <a:ext cx="247140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510" name=""/>
          <p:cNvSpPr/>
          <p:nvPr/>
        </p:nvSpPr>
        <p:spPr>
          <a:xfrm>
            <a:off x="5435640" y="3213000"/>
            <a:ext cx="370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elze rozložit na souči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435640" y="3789360"/>
            <a:ext cx="3708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ořeny neexistuj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1011240" y="906480"/>
                <a:ext cx="49197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505480" y="2130480"/>
                <a:ext cx="218916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6659640" y="5300640"/>
                <a:ext cx="115884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1347840" y="2421000"/>
                <a:ext cx="31622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1547640" y="3429000"/>
                <a:ext cx="29401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1920960" y="4292640"/>
                <a:ext cx="265572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bar>
                      </m:e>
                    </m:ba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6443640" y="4292640"/>
                <a:ext cx="13446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6012000" y="3357720"/>
                <a:ext cx="16570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1042920" y="765000"/>
                <a:ext cx="49197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4987800" y="1917720"/>
                <a:ext cx="322272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2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1403280" y="2060640"/>
                <a:ext cx="21290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2627280" y="3933720"/>
                <a:ext cx="96984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2433600" y="2997360"/>
                <a:ext cx="11574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5508720" y="2997360"/>
                <a:ext cx="30654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5580000" y="3860640"/>
                <a:ext cx="190836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±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5526000" y="4979880"/>
                <a:ext cx="253224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1258920" y="260280"/>
                <a:ext cx="59230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1835280" y="4768920"/>
                <a:ext cx="322236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5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1692360" y="1268280"/>
                <a:ext cx="316224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2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2268360" y="5634000"/>
                <a:ext cx="38484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2195640" y="3357720"/>
                <a:ext cx="275256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  <m:r>
                      <m:rPr>
                        <m:lit/>
                        <m:nor/>
                      </m:rPr>
                      <m:t xml:space="preserve">;   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2124000" y="1989000"/>
                <a:ext cx="3754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2124000" y="2565360"/>
                <a:ext cx="222084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±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5" name=""/>
          <p:cNvSpPr/>
          <p:nvPr/>
        </p:nvSpPr>
        <p:spPr>
          <a:xfrm>
            <a:off x="2195640" y="6137280"/>
            <a:ext cx="334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Úloha nemá řešení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115640" y="620280"/>
            <a:ext cx="7799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116000" y="2205000"/>
            <a:ext cx="76327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Určete hodnotu reálného parametru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tak, aby KČ mělo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) reálnou složku nezápornou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b) imaginární složku kladnou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1187280" y="549360"/>
                <a:ext cx="375948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1430280" y="1916280"/>
                <a:ext cx="1973160" cy="96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2484360" y="3933720"/>
                <a:ext cx="9399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5359320" y="2171880"/>
                <a:ext cx="21304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2195640" y="4724280"/>
                <a:ext cx="156672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r>
                              <m:t xml:space="preserve">⟨</m:t>
                            </m:r>
                            <m:r>
                              <m:t xml:space="preserve">2</m:t>
                            </m:r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1908000" y="3141720"/>
                <a:ext cx="14716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6659640" y="2997360"/>
                <a:ext cx="112860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&gt;</m:t>
                    </m:r>
                    <m:r>
                      <m:t xml:space="preserve">2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6659640" y="3645000"/>
                <a:ext cx="100332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6084720" y="4941720"/>
                <a:ext cx="203544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;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446120"/>
          <a:ext cx="7634160" cy="5149800"/>
        </p:xfrm>
        <a:graphic>
          <a:graphicData uri="http://schemas.openxmlformats.org/drawingml/2006/table">
            <a:tbl>
              <a:tblPr/>
              <a:tblGrid>
                <a:gridCol w="3097080"/>
                <a:gridCol w="453708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lgebraický tvar komplexního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ebnou teoretickou část, ale také řešené i neřešené příklady s výsledky, včetně názorného postupu. Příklady jsou sestaveny tak, aby si žáci procvičili novou látku, ale také zopakovali řešení rovnic a nerovnic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gebraický tvar komplexního čísla – reálná a imaginární část; Komplexní číslo – ryze imaginární, imaginární, reálné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1042920" y="260280"/>
                <a:ext cx="410364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1187280" y="1557360"/>
                <a:ext cx="21607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6084720" y="1700280"/>
                <a:ext cx="23814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1763640" y="5373720"/>
                <a:ext cx="181764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r>
                              <m:t xml:space="preserve">⟨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1495440" y="2637000"/>
                <a:ext cx="16891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: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6438960" y="2349360"/>
                <a:ext cx="2133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5614920" y="5516640"/>
                <a:ext cx="319428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554" name=""/>
          <p:cNvGrpSpPr/>
          <p:nvPr/>
        </p:nvGrpSpPr>
        <p:grpSpPr>
          <a:xfrm>
            <a:off x="1332000" y="4076640"/>
            <a:ext cx="3095640" cy="1150920"/>
            <a:chOff x="1332000" y="4076640"/>
            <a:chExt cx="3095640" cy="1150920"/>
          </a:xfrm>
        </p:grpSpPr>
        <p:sp>
          <p:nvSpPr>
            <p:cNvPr id="555" name=""/>
            <p:cNvSpPr/>
            <p:nvPr/>
          </p:nvSpPr>
          <p:spPr>
            <a:xfrm>
              <a:off x="1332000" y="4219200"/>
              <a:ext cx="309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6" name=""/>
                <p:cNvSpPr txBox="1"/>
                <p:nvPr/>
              </p:nvSpPr>
              <p:spPr>
                <a:xfrm>
                  <a:off x="1979640" y="4508280"/>
                  <a:ext cx="408240" cy="33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7" name=""/>
                <p:cNvSpPr txBox="1"/>
                <p:nvPr/>
              </p:nvSpPr>
              <p:spPr>
                <a:xfrm>
                  <a:off x="3132360" y="4435200"/>
                  <a:ext cx="306360" cy="79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58" name=""/>
            <p:cNvSpPr/>
            <p:nvPr/>
          </p:nvSpPr>
          <p:spPr>
            <a:xfrm>
              <a:off x="2268720" y="407664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348360" y="407664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3708360" y="3932280"/>
            <a:ext cx="28908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620720" y="3932280"/>
            <a:ext cx="28908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2700360" y="3787920"/>
            <a:ext cx="289080" cy="288720"/>
            <a:chOff x="2700360" y="3787920"/>
            <a:chExt cx="289080" cy="288720"/>
          </a:xfrm>
        </p:grpSpPr>
        <p:sp>
          <p:nvSpPr>
            <p:cNvPr id="563" name=""/>
            <p:cNvSpPr/>
            <p:nvPr/>
          </p:nvSpPr>
          <p:spPr>
            <a:xfrm>
              <a:off x="2700360" y="3932280"/>
              <a:ext cx="289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844720" y="378792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3924360" y="1628640"/>
                <a:ext cx="88884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≠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6516720" y="3141720"/>
                <a:ext cx="14400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: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67" name=""/>
          <p:cNvGrpSpPr/>
          <p:nvPr/>
        </p:nvGrpSpPr>
        <p:grpSpPr>
          <a:xfrm>
            <a:off x="5796000" y="4076640"/>
            <a:ext cx="3095640" cy="824040"/>
            <a:chOff x="5796000" y="4076640"/>
            <a:chExt cx="3095640" cy="824040"/>
          </a:xfrm>
        </p:grpSpPr>
        <p:sp>
          <p:nvSpPr>
            <p:cNvPr id="568" name=""/>
            <p:cNvSpPr/>
            <p:nvPr/>
          </p:nvSpPr>
          <p:spPr>
            <a:xfrm>
              <a:off x="5796000" y="4219560"/>
              <a:ext cx="309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9" name=""/>
                <p:cNvSpPr txBox="1"/>
                <p:nvPr/>
              </p:nvSpPr>
              <p:spPr>
                <a:xfrm>
                  <a:off x="6443640" y="4508640"/>
                  <a:ext cx="50472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70" name=""/>
            <p:cNvSpPr/>
            <p:nvPr/>
          </p:nvSpPr>
          <p:spPr>
            <a:xfrm>
              <a:off x="6732720" y="4076640"/>
              <a:ext cx="0" cy="2890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12000" y="4076640"/>
              <a:ext cx="0" cy="2890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2" name=""/>
                <p:cNvSpPr txBox="1"/>
                <p:nvPr/>
              </p:nvSpPr>
              <p:spPr>
                <a:xfrm>
                  <a:off x="7667640" y="4508640"/>
                  <a:ext cx="28080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73" name=""/>
          <p:cNvSpPr/>
          <p:nvPr/>
        </p:nvSpPr>
        <p:spPr>
          <a:xfrm>
            <a:off x="7093080" y="3933720"/>
            <a:ext cx="28872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8244000" y="3789360"/>
            <a:ext cx="288720" cy="288720"/>
            <a:chOff x="8244000" y="3789360"/>
            <a:chExt cx="288720" cy="288720"/>
          </a:xfrm>
        </p:grpSpPr>
        <p:sp>
          <p:nvSpPr>
            <p:cNvPr id="575" name=""/>
            <p:cNvSpPr/>
            <p:nvPr/>
          </p:nvSpPr>
          <p:spPr>
            <a:xfrm>
              <a:off x="8244000" y="3933720"/>
              <a:ext cx="288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388000" y="378936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6084720" y="3789360"/>
            <a:ext cx="289080" cy="288720"/>
            <a:chOff x="6084720" y="3789360"/>
            <a:chExt cx="289080" cy="288720"/>
          </a:xfrm>
        </p:grpSpPr>
        <p:sp>
          <p:nvSpPr>
            <p:cNvPr id="578" name=""/>
            <p:cNvSpPr/>
            <p:nvPr/>
          </p:nvSpPr>
          <p:spPr>
            <a:xfrm>
              <a:off x="6084720" y="3933720"/>
              <a:ext cx="289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29080" y="378936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2700360" y="1628640"/>
            <a:ext cx="289080" cy="288720"/>
            <a:chOff x="2700360" y="1628640"/>
            <a:chExt cx="289080" cy="288720"/>
          </a:xfrm>
        </p:grpSpPr>
        <p:sp>
          <p:nvSpPr>
            <p:cNvPr id="581" name=""/>
            <p:cNvSpPr/>
            <p:nvPr/>
          </p:nvSpPr>
          <p:spPr>
            <a:xfrm>
              <a:off x="2700360" y="1773000"/>
              <a:ext cx="2890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844720" y="1628640"/>
              <a:ext cx="0" cy="288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7885080" y="1628640"/>
            <a:ext cx="289080" cy="288720"/>
            <a:chOff x="7885080" y="1628640"/>
            <a:chExt cx="289080" cy="288720"/>
          </a:xfrm>
        </p:grpSpPr>
        <p:sp>
          <p:nvSpPr>
            <p:cNvPr id="584" name=""/>
            <p:cNvSpPr/>
            <p:nvPr/>
          </p:nvSpPr>
          <p:spPr>
            <a:xfrm>
              <a:off x="7885080" y="1773000"/>
              <a:ext cx="2890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029440" y="1628640"/>
              <a:ext cx="0" cy="288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1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1042920" y="260280"/>
                <a:ext cx="55134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1258920" y="1125360"/>
                <a:ext cx="3036960" cy="5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2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5651640" y="1052640"/>
                <a:ext cx="28828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1257480" y="5475240"/>
                <a:ext cx="335268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  <m:r>
                      <m:t xml:space="preserve">∪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5940360" y="1773360"/>
                <a:ext cx="26352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5796000" y="4869000"/>
                <a:ext cx="313200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5888160" y="2492280"/>
                <a:ext cx="16333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: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93" name=""/>
          <p:cNvGrpSpPr/>
          <p:nvPr/>
        </p:nvGrpSpPr>
        <p:grpSpPr>
          <a:xfrm>
            <a:off x="5867280" y="3716280"/>
            <a:ext cx="3095640" cy="824040"/>
            <a:chOff x="5867280" y="3716280"/>
            <a:chExt cx="3095640" cy="824040"/>
          </a:xfrm>
        </p:grpSpPr>
        <p:sp>
          <p:nvSpPr>
            <p:cNvPr id="594" name=""/>
            <p:cNvSpPr/>
            <p:nvPr/>
          </p:nvSpPr>
          <p:spPr>
            <a:xfrm>
              <a:off x="5867280" y="3859200"/>
              <a:ext cx="309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5" name=""/>
                <p:cNvSpPr txBox="1"/>
                <p:nvPr/>
              </p:nvSpPr>
              <p:spPr>
                <a:xfrm>
                  <a:off x="6514920" y="4148280"/>
                  <a:ext cx="50472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96" name=""/>
            <p:cNvSpPr/>
            <p:nvPr/>
          </p:nvSpPr>
          <p:spPr>
            <a:xfrm>
              <a:off x="6804000" y="3716280"/>
              <a:ext cx="0" cy="2890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883280" y="3716280"/>
              <a:ext cx="0" cy="2890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8" name=""/>
                <p:cNvSpPr txBox="1"/>
                <p:nvPr/>
              </p:nvSpPr>
              <p:spPr>
                <a:xfrm>
                  <a:off x="7781760" y="4160880"/>
                  <a:ext cx="195120" cy="36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9" name=""/>
          <p:cNvSpPr/>
          <p:nvPr/>
        </p:nvSpPr>
        <p:spPr>
          <a:xfrm>
            <a:off x="7164360" y="3573360"/>
            <a:ext cx="28908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8315280" y="3429000"/>
            <a:ext cx="289080" cy="288720"/>
            <a:chOff x="8315280" y="3429000"/>
            <a:chExt cx="289080" cy="288720"/>
          </a:xfrm>
        </p:grpSpPr>
        <p:sp>
          <p:nvSpPr>
            <p:cNvPr id="601" name=""/>
            <p:cNvSpPr/>
            <p:nvPr/>
          </p:nvSpPr>
          <p:spPr>
            <a:xfrm>
              <a:off x="8315280" y="3573360"/>
              <a:ext cx="289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459640" y="342900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6156360" y="3429000"/>
            <a:ext cx="288720" cy="288720"/>
            <a:chOff x="6156360" y="3429000"/>
            <a:chExt cx="288720" cy="288720"/>
          </a:xfrm>
        </p:grpSpPr>
        <p:sp>
          <p:nvSpPr>
            <p:cNvPr id="604" name=""/>
            <p:cNvSpPr/>
            <p:nvPr/>
          </p:nvSpPr>
          <p:spPr>
            <a:xfrm>
              <a:off x="6156360" y="3573360"/>
              <a:ext cx="288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300360" y="342900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1619280" y="2060640"/>
                <a:ext cx="30240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1619280" y="2708280"/>
                <a:ext cx="255744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±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08" name=""/>
          <p:cNvGrpSpPr/>
          <p:nvPr/>
        </p:nvGrpSpPr>
        <p:grpSpPr>
          <a:xfrm>
            <a:off x="1546200" y="4435560"/>
            <a:ext cx="3095640" cy="1009080"/>
            <a:chOff x="1546200" y="4435560"/>
            <a:chExt cx="3095640" cy="1009080"/>
          </a:xfrm>
        </p:grpSpPr>
        <p:sp>
          <p:nvSpPr>
            <p:cNvPr id="609" name=""/>
            <p:cNvSpPr/>
            <p:nvPr/>
          </p:nvSpPr>
          <p:spPr>
            <a:xfrm>
              <a:off x="1546200" y="4578120"/>
              <a:ext cx="309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0" name=""/>
                <p:cNvSpPr txBox="1"/>
                <p:nvPr/>
              </p:nvSpPr>
              <p:spPr>
                <a:xfrm>
                  <a:off x="2194200" y="4724280"/>
                  <a:ext cx="465120" cy="72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11" name=""/>
            <p:cNvSpPr/>
            <p:nvPr/>
          </p:nvSpPr>
          <p:spPr>
            <a:xfrm>
              <a:off x="2482920" y="443556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562560" y="443556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3" name=""/>
                <p:cNvSpPr txBox="1"/>
                <p:nvPr/>
              </p:nvSpPr>
              <p:spPr>
                <a:xfrm>
                  <a:off x="3418200" y="4868640"/>
                  <a:ext cx="280800" cy="36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14" name=""/>
          <p:cNvSpPr/>
          <p:nvPr/>
        </p:nvSpPr>
        <p:spPr>
          <a:xfrm>
            <a:off x="2843280" y="4292640"/>
            <a:ext cx="28872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3994200" y="4148280"/>
            <a:ext cx="288720" cy="288720"/>
            <a:chOff x="3994200" y="4148280"/>
            <a:chExt cx="288720" cy="288720"/>
          </a:xfrm>
        </p:grpSpPr>
        <p:sp>
          <p:nvSpPr>
            <p:cNvPr id="616" name=""/>
            <p:cNvSpPr/>
            <p:nvPr/>
          </p:nvSpPr>
          <p:spPr>
            <a:xfrm>
              <a:off x="3994200" y="4292640"/>
              <a:ext cx="288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138200" y="414828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1835280" y="4148280"/>
            <a:ext cx="288720" cy="288720"/>
            <a:chOff x="1835280" y="4148280"/>
            <a:chExt cx="288720" cy="288720"/>
          </a:xfrm>
        </p:grpSpPr>
        <p:sp>
          <p:nvSpPr>
            <p:cNvPr id="619" name=""/>
            <p:cNvSpPr/>
            <p:nvPr/>
          </p:nvSpPr>
          <p:spPr>
            <a:xfrm>
              <a:off x="1835280" y="4292640"/>
              <a:ext cx="288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979280" y="414828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3780000" y="981000"/>
            <a:ext cx="288720" cy="288720"/>
            <a:chOff x="3780000" y="981000"/>
            <a:chExt cx="288720" cy="288720"/>
          </a:xfrm>
        </p:grpSpPr>
        <p:sp>
          <p:nvSpPr>
            <p:cNvPr id="622" name=""/>
            <p:cNvSpPr/>
            <p:nvPr/>
          </p:nvSpPr>
          <p:spPr>
            <a:xfrm>
              <a:off x="3780000" y="1125360"/>
              <a:ext cx="2887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924000" y="981000"/>
              <a:ext cx="0" cy="288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7956720" y="981000"/>
            <a:ext cx="288720" cy="288720"/>
            <a:chOff x="7956720" y="981000"/>
            <a:chExt cx="288720" cy="288720"/>
          </a:xfrm>
        </p:grpSpPr>
        <p:sp>
          <p:nvSpPr>
            <p:cNvPr id="625" name=""/>
            <p:cNvSpPr/>
            <p:nvPr/>
          </p:nvSpPr>
          <p:spPr>
            <a:xfrm>
              <a:off x="7956720" y="1125360"/>
              <a:ext cx="2887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100720" y="981000"/>
              <a:ext cx="0" cy="288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3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3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3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34" dur="indefinite" restart="never" nodeType="tmRoot">
          <p:childTnLst>
            <p:seq>
              <p:cTn id="1235" dur="indefinite" nodeType="mainSeq">
                <p:childTnLst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920" y="981000"/>
            <a:ext cx="734544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Algebraický tvar komplexního čísla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87280" y="189000"/>
            <a:ext cx="77724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Algebraický tvar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 (AT)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187280" y="1341360"/>
            <a:ext cx="7701120" cy="792360"/>
            <a:chOff x="1187280" y="1341360"/>
            <a:chExt cx="7701120" cy="792360"/>
          </a:xfrm>
        </p:grpSpPr>
        <p:sp>
          <p:nvSpPr>
            <p:cNvPr id="144" name=""/>
            <p:cNvSpPr/>
            <p:nvPr/>
          </p:nvSpPr>
          <p:spPr>
            <a:xfrm>
              <a:off x="1187280" y="1341360"/>
              <a:ext cx="77011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se nazývá zápis:                           , kde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4140360" y="1341360"/>
                  <a:ext cx="2376360" cy="70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6" name=""/>
          <p:cNvSpPr/>
          <p:nvPr/>
        </p:nvSpPr>
        <p:spPr>
          <a:xfrm>
            <a:off x="1547640" y="2349360"/>
            <a:ext cx="7452000" cy="22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437040" indent="-437040">
              <a:lnSpc>
                <a:spcPct val="120000"/>
              </a:lnSpc>
              <a:spcBef>
                <a:spcPts val="799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82800"/>
                <a:tab algn="l" pos="160956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...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KČ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C 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37040" indent="-437040">
              <a:lnSpc>
                <a:spcPct val="120000"/>
              </a:lnSpc>
              <a:spcBef>
                <a:spcPts val="799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82800"/>
                <a:tab algn="l" pos="160956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...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reálná část KČ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R 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37040" indent="-437040">
              <a:lnSpc>
                <a:spcPct val="120000"/>
              </a:lnSpc>
              <a:spcBef>
                <a:spcPts val="799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82800"/>
                <a:tab algn="l" pos="160956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...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imaginární část KČ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R 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16000" y="4941720"/>
            <a:ext cx="774072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46040" indent="-446040">
              <a:lnSpc>
                <a:spcPct val="120000"/>
              </a:lnSpc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známka: slova latinského původu překládám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72720" indent="-348840">
              <a:lnSpc>
                <a:spcPct val="120000"/>
              </a:lnSpc>
              <a:spcBef>
                <a:spcPts val="349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komplexní =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ložené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72720" indent="-348840">
              <a:lnSpc>
                <a:spcPct val="120000"/>
              </a:lnSpc>
              <a:spcBef>
                <a:spcPts val="349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imaginární =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myslné, zdánlivé, neskutečné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87280" y="620640"/>
            <a:ext cx="76327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30000"/>
              </a:lnSpc>
              <a:tabLst>
                <a:tab algn="l" pos="0"/>
                <a:tab algn="l" pos="98280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Obrazem KČ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 a = 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 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                          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 v Gaussově rovině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,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 bod 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84720" y="763560"/>
            <a:ext cx="433440" cy="57636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576360"/>
              <a:gd name="textAreaBottom" fmla="*/ 555480 h 576360"/>
            </a:gdLst>
            <a:ahLst/>
            <a:rect l="textAreaLeft" t="textAreaTop" r="textAreaRight" b="textAreaBottom"/>
            <a:pathLst>
              <a:path w="21600" h="28716">
                <a:moveTo>
                  <a:pt x="3600" y="0"/>
                </a:moveTo>
                <a:arcTo wR="3600" hR="3600" stAng="16200000" swAng="-5400000"/>
                <a:lnTo>
                  <a:pt x="0" y="25116"/>
                </a:lnTo>
                <a:arcTo wR="3600" hR="3600" stAng="10800000" swAng="-5400000"/>
                <a:lnTo>
                  <a:pt x="18000" y="287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16360" y="260280"/>
            <a:ext cx="17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reálná čás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88000" y="763560"/>
            <a:ext cx="7207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58560" y="260280"/>
            <a:ext cx="24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00"/>
                </a:solidFill>
                <a:latin typeface="Times New Roman"/>
              </a:rPr>
              <a:t>imaginární čás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43280" y="1341360"/>
            <a:ext cx="722520" cy="4391280"/>
          </a:xfrm>
          <a:prstGeom prst="line">
            <a:avLst/>
          </a:prstGeom>
          <a:ln w="38160">
            <a:solidFill>
              <a:srgbClr val="66ff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58560" y="5516640"/>
            <a:ext cx="229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ff33"/>
                </a:solidFill>
                <a:latin typeface="Times New Roman"/>
              </a:rPr>
              <a:t>= reálná os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211280" y="1341360"/>
            <a:ext cx="647640" cy="230364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40760" y="2205000"/>
            <a:ext cx="30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00"/>
                </a:solidFill>
                <a:latin typeface="Times New Roman"/>
              </a:rPr>
              <a:t>imaginární osa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43280" y="5516640"/>
            <a:ext cx="381636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427640" y="2421000"/>
            <a:ext cx="0" cy="396072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75120" y="2205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72000" y="55166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35640" y="3860640"/>
            <a:ext cx="0" cy="18003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284720" y="3860640"/>
            <a:ext cx="113976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29000" y="5589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708360" y="3500280"/>
            <a:ext cx="655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33680" y="3213000"/>
            <a:ext cx="2038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A =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28720" y="5516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5364000" y="3789360"/>
            <a:ext cx="144720" cy="142920"/>
            <a:chOff x="5364000" y="3789360"/>
            <a:chExt cx="144720" cy="142920"/>
          </a:xfrm>
        </p:grpSpPr>
        <p:sp>
          <p:nvSpPr>
            <p:cNvPr id="168" name=""/>
            <p:cNvSpPr/>
            <p:nvPr/>
          </p:nvSpPr>
          <p:spPr>
            <a:xfrm>
              <a:off x="5364000" y="378936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5364000" y="378936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5229000" y="5589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66ff33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08360" y="3500280"/>
            <a:ext cx="655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87280" y="189000"/>
            <a:ext cx="77724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KČ rozlišujeme a v AT zapisujeme: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16000" y="1197000"/>
            <a:ext cx="802800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2636280" indent="-2636280">
              <a:lnSpc>
                <a:spcPct val="110000"/>
              </a:lnSpc>
              <a:tabLst>
                <a:tab algn="l" pos="0"/>
                <a:tab algn="l" pos="484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KČ reálná: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 = a</a:t>
            </a:r>
            <a:r>
              <a:rPr b="0" lang="cs-CZ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2636280" indent="-2636280">
              <a:lnSpc>
                <a:spcPct val="110000"/>
              </a:lnSpc>
              <a:tabLst>
                <a:tab algn="l" pos="0"/>
                <a:tab algn="l" pos="484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3;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– 5; ... 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R 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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2636280" indent="-2636280">
              <a:lnSpc>
                <a:spcPct val="110000"/>
              </a:lnSpc>
              <a:tabLst>
                <a:tab algn="l" pos="0"/>
                <a:tab algn="l" pos="484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obrazy jsou body souřadné osy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2636280" indent="-2636280">
              <a:lnSpc>
                <a:spcPct val="110000"/>
              </a:lnSpc>
              <a:spcBef>
                <a:spcPts val="2801"/>
              </a:spcBef>
              <a:tabLst>
                <a:tab algn="l" pos="0"/>
                <a:tab algn="l" pos="484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KČ ryze imaginární: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2636280" indent="-2636280">
              <a:lnSpc>
                <a:spcPct val="110000"/>
              </a:lnSpc>
              <a:tabLst>
                <a:tab algn="l" pos="0"/>
                <a:tab algn="l" pos="484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 =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 2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a =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4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...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0 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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R –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{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2636280" indent="-2636280">
              <a:lnSpc>
                <a:spcPct val="110000"/>
              </a:lnSpc>
              <a:tabLst>
                <a:tab algn="l" pos="0"/>
                <a:tab algn="l" pos="484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obrazy jsou body souřadné osy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2636280" indent="-2636280">
              <a:lnSpc>
                <a:spcPct val="110000"/>
              </a:lnSpc>
              <a:spcBef>
                <a:spcPts val="2801"/>
              </a:spcBef>
              <a:tabLst>
                <a:tab algn="l" pos="0"/>
                <a:tab algn="l" pos="484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KČ imaginární: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+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2636280" indent="-2636280">
              <a:lnSpc>
                <a:spcPct val="110000"/>
              </a:lnSpc>
              <a:tabLst>
                <a:tab algn="l" pos="0"/>
                <a:tab algn="l" pos="484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a = 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3</a:t>
            </a: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 + i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;</a:t>
            </a: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 a = 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5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...</a:t>
            </a: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R –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{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}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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R –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{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2636280" indent="-2636280">
              <a:lnSpc>
                <a:spcPct val="110000"/>
              </a:lnSpc>
              <a:tabLst>
                <a:tab algn="l" pos="0"/>
                <a:tab algn="l" pos="484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obrazy jsou body, které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eleží na souřadných osách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799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16000" y="2421000"/>
            <a:ext cx="802800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) Sestrojte v Gaussově rovině obrazy KČ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) Vyberte, která ze zadaných KČ jsou            a) reálná, b) ryze imaginární, c) imaginární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16000" y="4005360"/>
            <a:ext cx="80280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tabLst>
                <a:tab algn="l" pos="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e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5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tabLst>
                <a:tab algn="l" pos="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tabLst>
                <a:tab algn="l" pos="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1 +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tabLst>
                <a:tab algn="l" pos="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5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– 2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– 1 – 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32000" y="4005360"/>
            <a:ext cx="6012000" cy="26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130000"/>
              </a:lnSpc>
              <a:tabLst>
                <a:tab algn="l" pos="0"/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0; 1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i="1" lang="cs-CZ" sz="3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5; 0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i="1" lang="cs-CZ" sz="3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542160" indent="-542160">
              <a:lnSpc>
                <a:spcPct val="130000"/>
              </a:lnSpc>
              <a:tabLst>
                <a:tab algn="l" pos="0"/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G 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– 2; 0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i="1" lang="cs-CZ" sz="3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0; 3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i="1" lang="cs-CZ" sz="3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542160" indent="-542160">
              <a:lnSpc>
                <a:spcPct val="130000"/>
              </a:lnSpc>
              <a:tabLst>
                <a:tab algn="l" pos="0"/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1; 1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i="1" lang="cs-CZ" sz="3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0; – 1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542160" indent="-542160">
              <a:lnSpc>
                <a:spcPct val="130000"/>
              </a:lnSpc>
              <a:tabLst>
                <a:tab algn="l" pos="0"/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– 2; 5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i="1" lang="cs-CZ" sz="3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– 1; – 4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64000" y="1052640"/>
            <a:ext cx="30240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30000"/>
              </a:lnSpc>
              <a:tabLst>
                <a:tab algn="l" pos="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4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–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2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c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– 5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c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– 2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– 3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27640" y="1413000"/>
            <a:ext cx="0" cy="23763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5065560" y="1413000"/>
            <a:ext cx="116208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14160" y="83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6156000" y="1341360"/>
            <a:ext cx="144720" cy="142920"/>
            <a:chOff x="6156000" y="1341360"/>
            <a:chExt cx="144720" cy="142920"/>
          </a:xfrm>
        </p:grpSpPr>
        <p:sp>
          <p:nvSpPr>
            <p:cNvPr id="183" name=""/>
            <p:cNvSpPr/>
            <p:nvPr/>
          </p:nvSpPr>
          <p:spPr>
            <a:xfrm>
              <a:off x="6156360" y="134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6156000" y="134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1835280" y="0"/>
            <a:ext cx="6799320" cy="6858000"/>
            <a:chOff x="1835280" y="0"/>
            <a:chExt cx="6799320" cy="6858000"/>
          </a:xfrm>
        </p:grpSpPr>
        <p:sp>
          <p:nvSpPr>
            <p:cNvPr id="186" name=""/>
            <p:cNvSpPr/>
            <p:nvPr/>
          </p:nvSpPr>
          <p:spPr>
            <a:xfrm>
              <a:off x="1835280" y="3789360"/>
              <a:ext cx="6696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076720" y="216000"/>
              <a:ext cx="0" cy="6642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149440" y="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18160" y="3716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05240" y="386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720" y="1268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24160" y="386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9564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77164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4800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2436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0072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5164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22764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0400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8036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95672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5003640" y="666900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5003640" y="609300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5003640" y="551664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5003640" y="494172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5003640" y="436572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5003640" y="3141720"/>
              <a:ext cx="144720" cy="14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5003640" y="256536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5003640" y="198900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5003640" y="836640"/>
              <a:ext cx="144720" cy="14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5003640" y="141300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80160" y="386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529240" y="386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184880" y="386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832520" y="386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97240" y="2997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097240" y="242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240" y="1846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97240" y="69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116320" y="647388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116320" y="595008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16320" y="537372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16320" y="479736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116320" y="422280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324320" y="386244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47960" y="386244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98520" y="386244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523960" y="386244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19240" y="386244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3348000" y="2565360"/>
            <a:ext cx="0" cy="12225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48000" y="2565360"/>
            <a:ext cx="178920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276360" y="2492280"/>
            <a:ext cx="144720" cy="142920"/>
            <a:chOff x="3276360" y="2492280"/>
            <a:chExt cx="144720" cy="142920"/>
          </a:xfrm>
        </p:grpSpPr>
        <p:sp>
          <p:nvSpPr>
            <p:cNvPr id="234" name=""/>
            <p:cNvSpPr/>
            <p:nvPr/>
          </p:nvSpPr>
          <p:spPr>
            <a:xfrm>
              <a:off x="3276720" y="2492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3276360" y="2492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3044880" y="2009880"/>
            <a:ext cx="4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6920" y="189000"/>
            <a:ext cx="81327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30120" indent="-330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236680"/>
                <a:tab algn="l" pos="269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1)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ffff00"/>
                </a:solidFill>
                <a:latin typeface="Times New Roman"/>
              </a:rPr>
              <a:t>a = a</a:t>
            </a:r>
            <a:r>
              <a:rPr b="0" lang="cs-CZ" sz="30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0" i="1" lang="cs-CZ" sz="3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cs-CZ" sz="30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i="1" lang="cs-CZ" sz="3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; </a:t>
            </a:r>
            <a:r>
              <a:rPr b="0" i="1" lang="cs-CZ" sz="3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16000" y="1052640"/>
            <a:ext cx="20178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456840" indent="-456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 2 + 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6840" indent="-456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– 3 +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6840" indent="-456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– 5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6840" indent="-456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3 –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236000" y="1052640"/>
            <a:ext cx="19080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2; 4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– 3; 2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– 5; – 2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3; – 3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195640" y="3789000"/>
            <a:ext cx="0" cy="11523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195640" y="4941720"/>
            <a:ext cx="294156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123640" y="4869000"/>
            <a:ext cx="144720" cy="142560"/>
            <a:chOff x="2123640" y="4869000"/>
            <a:chExt cx="144720" cy="142560"/>
          </a:xfrm>
        </p:grpSpPr>
        <p:sp>
          <p:nvSpPr>
            <p:cNvPr id="243" name=""/>
            <p:cNvSpPr/>
            <p:nvPr/>
          </p:nvSpPr>
          <p:spPr>
            <a:xfrm>
              <a:off x="212400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12364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1981440" y="501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6804000" y="3789360"/>
            <a:ext cx="0" cy="17272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5003280" y="5516640"/>
            <a:ext cx="180036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6732360" y="5445000"/>
            <a:ext cx="144720" cy="142920"/>
            <a:chOff x="6732360" y="5445000"/>
            <a:chExt cx="144720" cy="142920"/>
          </a:xfrm>
        </p:grpSpPr>
        <p:sp>
          <p:nvSpPr>
            <p:cNvPr id="249" name=""/>
            <p:cNvSpPr/>
            <p:nvPr/>
          </p:nvSpPr>
          <p:spPr>
            <a:xfrm>
              <a:off x="6732720" y="54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6732360" y="54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6590160" y="5589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35280" y="4005360"/>
            <a:ext cx="136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tabLst>
                <a:tab algn="l" pos="0"/>
                <a:tab algn="l" pos="3862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0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+ 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24360" y="4005360"/>
            <a:ext cx="1800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tabLst>
                <a:tab algn="l" pos="0"/>
                <a:tab algn="l" pos="3862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5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0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2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2" dur="2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2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227640" y="1413000"/>
            <a:ext cx="0" cy="23763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065560" y="1413000"/>
            <a:ext cx="116208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14160" y="83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156000" y="1341360"/>
            <a:ext cx="144720" cy="142920"/>
            <a:chOff x="6156000" y="1341360"/>
            <a:chExt cx="144720" cy="142920"/>
          </a:xfrm>
        </p:grpSpPr>
        <p:sp>
          <p:nvSpPr>
            <p:cNvPr id="258" name=""/>
            <p:cNvSpPr/>
            <p:nvPr/>
          </p:nvSpPr>
          <p:spPr>
            <a:xfrm>
              <a:off x="6156360" y="134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6156000" y="134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835280" y="0"/>
            <a:ext cx="6799320" cy="6858000"/>
            <a:chOff x="1835280" y="0"/>
            <a:chExt cx="6799320" cy="6858000"/>
          </a:xfrm>
        </p:grpSpPr>
        <p:sp>
          <p:nvSpPr>
            <p:cNvPr id="261" name=""/>
            <p:cNvSpPr/>
            <p:nvPr/>
          </p:nvSpPr>
          <p:spPr>
            <a:xfrm>
              <a:off x="1835280" y="3789360"/>
              <a:ext cx="6696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5076720" y="216000"/>
              <a:ext cx="0" cy="6642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49440" y="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318160" y="3716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105240" y="386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76720" y="1268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024160" y="386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19564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7164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4800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92436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0072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65164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22764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80400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8036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95672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5003640" y="666900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5003640" y="609300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5003640" y="551664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003640" y="494172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5003640" y="436572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5003640" y="3141720"/>
              <a:ext cx="144720" cy="14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5003640" y="256536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5003640" y="198900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5003640" y="836640"/>
              <a:ext cx="144720" cy="14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5003640" y="141300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680160" y="386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529240" y="386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184880" y="386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832520" y="386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097240" y="2997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097240" y="242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097240" y="1846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097240" y="69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116320" y="647388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116320" y="595008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116320" y="537372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116320" y="479736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116320" y="422280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324320" y="386244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47960" y="386244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098520" y="386244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23960" y="386244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19240" y="386244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3348000" y="2565360"/>
            <a:ext cx="0" cy="12225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348000" y="2565360"/>
            <a:ext cx="178920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3276360" y="2492280"/>
            <a:ext cx="144720" cy="142920"/>
            <a:chOff x="3276360" y="2492280"/>
            <a:chExt cx="144720" cy="142920"/>
          </a:xfrm>
        </p:grpSpPr>
        <p:sp>
          <p:nvSpPr>
            <p:cNvPr id="309" name=""/>
            <p:cNvSpPr/>
            <p:nvPr/>
          </p:nvSpPr>
          <p:spPr>
            <a:xfrm>
              <a:off x="3276720" y="2492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3276360" y="2492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3061080" y="1989000"/>
            <a:ext cx="5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95640" y="3789360"/>
            <a:ext cx="0" cy="11523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195640" y="4941720"/>
            <a:ext cx="286992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10160" y="5013360"/>
            <a:ext cx="5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2123640" y="4869000"/>
            <a:ext cx="144720" cy="142560"/>
            <a:chOff x="2123640" y="4869000"/>
            <a:chExt cx="144720" cy="142560"/>
          </a:xfrm>
        </p:grpSpPr>
        <p:sp>
          <p:nvSpPr>
            <p:cNvPr id="316" name=""/>
            <p:cNvSpPr/>
            <p:nvPr/>
          </p:nvSpPr>
          <p:spPr>
            <a:xfrm>
              <a:off x="212400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12364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6804000" y="3789360"/>
            <a:ext cx="0" cy="17272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076720" y="5516640"/>
            <a:ext cx="172728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6732360" y="5445000"/>
            <a:ext cx="144720" cy="142920"/>
            <a:chOff x="6732360" y="5445000"/>
            <a:chExt cx="144720" cy="142920"/>
          </a:xfrm>
        </p:grpSpPr>
        <p:sp>
          <p:nvSpPr>
            <p:cNvPr id="321" name=""/>
            <p:cNvSpPr/>
            <p:nvPr/>
          </p:nvSpPr>
          <p:spPr>
            <a:xfrm>
              <a:off x="6732720" y="54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6732360" y="54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6509520" y="5589720"/>
            <a:ext cx="52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003640" y="3068640"/>
            <a:ext cx="144720" cy="142920"/>
            <a:chOff x="5003640" y="3068640"/>
            <a:chExt cx="144720" cy="142920"/>
          </a:xfrm>
        </p:grpSpPr>
        <p:sp>
          <p:nvSpPr>
            <p:cNvPr id="325" name=""/>
            <p:cNvSpPr/>
            <p:nvPr/>
          </p:nvSpPr>
          <p:spPr>
            <a:xfrm>
              <a:off x="5003640" y="3068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5003640" y="3068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4502880" y="2852640"/>
            <a:ext cx="48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7884720" y="3716280"/>
            <a:ext cx="144720" cy="142920"/>
            <a:chOff x="7884720" y="3716280"/>
            <a:chExt cx="144720" cy="142920"/>
          </a:xfrm>
        </p:grpSpPr>
        <p:sp>
          <p:nvSpPr>
            <p:cNvPr id="329" name=""/>
            <p:cNvSpPr/>
            <p:nvPr/>
          </p:nvSpPr>
          <p:spPr>
            <a:xfrm>
              <a:off x="788508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788472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7742520" y="3213000"/>
            <a:ext cx="4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02880" y="1700280"/>
            <a:ext cx="52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5003640" y="1916280"/>
            <a:ext cx="144720" cy="142560"/>
            <a:chOff x="5003640" y="1916280"/>
            <a:chExt cx="144720" cy="142560"/>
          </a:xfrm>
        </p:grpSpPr>
        <p:sp>
          <p:nvSpPr>
            <p:cNvPr id="334" name=""/>
            <p:cNvSpPr/>
            <p:nvPr/>
          </p:nvSpPr>
          <p:spPr>
            <a:xfrm>
              <a:off x="5003640" y="191628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5003640" y="191628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3850920" y="3716280"/>
            <a:ext cx="144720" cy="142920"/>
            <a:chOff x="3850920" y="3716280"/>
            <a:chExt cx="144720" cy="142920"/>
          </a:xfrm>
        </p:grpSpPr>
        <p:sp>
          <p:nvSpPr>
            <p:cNvPr id="337" name=""/>
            <p:cNvSpPr/>
            <p:nvPr/>
          </p:nvSpPr>
          <p:spPr>
            <a:xfrm>
              <a:off x="385128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385092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853440" y="3213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651640" y="3141720"/>
            <a:ext cx="0" cy="71892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5076360" y="3141720"/>
            <a:ext cx="57492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495760" y="249228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579640" y="3068640"/>
            <a:ext cx="144720" cy="142920"/>
            <a:chOff x="5579640" y="3068640"/>
            <a:chExt cx="144720" cy="142920"/>
          </a:xfrm>
        </p:grpSpPr>
        <p:sp>
          <p:nvSpPr>
            <p:cNvPr id="344" name=""/>
            <p:cNvSpPr/>
            <p:nvPr/>
          </p:nvSpPr>
          <p:spPr>
            <a:xfrm>
              <a:off x="5580000" y="306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5579640" y="306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4502880" y="4076640"/>
            <a:ext cx="52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5003640" y="4292640"/>
            <a:ext cx="144720" cy="142920"/>
            <a:chOff x="5003640" y="4292640"/>
            <a:chExt cx="144720" cy="142920"/>
          </a:xfrm>
        </p:grpSpPr>
        <p:sp>
          <p:nvSpPr>
            <p:cNvPr id="348" name=""/>
            <p:cNvSpPr/>
            <p:nvPr/>
          </p:nvSpPr>
          <p:spPr>
            <a:xfrm>
              <a:off x="5003640" y="4292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5003640" y="4292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3924360" y="836640"/>
            <a:ext cx="0" cy="29512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24360" y="836640"/>
            <a:ext cx="114120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681720" y="26028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3852720" y="765000"/>
            <a:ext cx="144720" cy="142920"/>
            <a:chOff x="3852720" y="765000"/>
            <a:chExt cx="144720" cy="142920"/>
          </a:xfrm>
        </p:grpSpPr>
        <p:sp>
          <p:nvSpPr>
            <p:cNvPr id="354" name=""/>
            <p:cNvSpPr/>
            <p:nvPr/>
          </p:nvSpPr>
          <p:spPr>
            <a:xfrm>
              <a:off x="3852720" y="765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3852720" y="765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4500720" y="3789360"/>
            <a:ext cx="0" cy="230364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00720" y="6093000"/>
            <a:ext cx="56664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6880" y="5805360"/>
            <a:ext cx="52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4427280" y="6021360"/>
            <a:ext cx="144720" cy="142920"/>
            <a:chOff x="4427280" y="6021360"/>
            <a:chExt cx="144720" cy="142920"/>
          </a:xfrm>
        </p:grpSpPr>
        <p:sp>
          <p:nvSpPr>
            <p:cNvPr id="360" name=""/>
            <p:cNvSpPr/>
            <p:nvPr/>
          </p:nvSpPr>
          <p:spPr>
            <a:xfrm>
              <a:off x="4427640" y="602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4427280" y="602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500"/>
                            </p:stCondLst>
                            <p:childTnLst>
                              <p:par>
                                <p:cTn id="5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000"/>
                            </p:stCondLst>
                            <p:childTnLst>
                              <p:par>
                                <p:cTn id="5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500"/>
                            </p:stCondLst>
                            <p:childTnLst>
                              <p:par>
                                <p:cTn id="5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3500"/>
                            </p:stCondLst>
                            <p:childTnLst>
                              <p:par>
                                <p:cTn id="5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4000"/>
                            </p:stCondLst>
                            <p:childTnLst>
                              <p:par>
                                <p:cTn id="5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500"/>
                            </p:stCondLst>
                            <p:childTnLst>
                              <p:par>
                                <p:cTn id="5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500"/>
                            </p:stCondLst>
                            <p:childTnLst>
                              <p:par>
                                <p:cTn id="5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6000"/>
                            </p:stCondLst>
                            <p:childTnLst>
                              <p:par>
                                <p:cTn id="5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6500"/>
                            </p:stCondLst>
                            <p:childTnLst>
                              <p:par>
                                <p:cTn id="5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700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750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8000"/>
                            </p:stCondLst>
                            <p:childTnLst>
                              <p:par>
                                <p:cTn id="6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8500"/>
                            </p:stCondLst>
                            <p:childTnLst>
                              <p:par>
                                <p:cTn id="6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9000"/>
                            </p:stCondLst>
                            <p:childTnLst>
                              <p:par>
                                <p:cTn id="6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9500"/>
                            </p:stCondLst>
                            <p:childTnLst>
                              <p:par>
                                <p:cTn id="6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500"/>
                            </p:stCondLst>
                            <p:childTnLst>
                              <p:par>
                                <p:cTn id="6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6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1500"/>
                            </p:stCondLst>
                            <p:childTnLst>
                              <p:par>
                                <p:cTn id="6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6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2500"/>
                            </p:stCondLst>
                            <p:childTnLst>
                              <p:par>
                                <p:cTn id="6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1:14Z</dcterms:modified>
  <cp:revision>296</cp:revision>
  <dc:subject/>
  <dc:title>KČ</dc:title>
</cp:coreProperties>
</file>