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9292-DC7F-41E0-BF8F-A4A3838842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A044-72D1-4601-BBCC-290026613E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670-C075-4A48-B384-619B1D9D72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939-8737-4854-9B9A-11251658E6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593-8BA6-4DFC-B18B-E287D2AB7A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540-17DD-4EE9-BCAE-1A957648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7F4-7C37-4B00-A6F3-C847AF3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A2D-5B3A-491B-B2DF-863B855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168-668C-4B68-8BCF-E18FEA15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44E-62E0-47F5-B79E-EDEBFC36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04E-4753-4DF5-BA9D-095A9AC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DBB-8A4F-44A2-9485-564EF53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C5E7-AB13-4FCA-9673-02B8B19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57E9-2DB9-426C-8834-330FAC3A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51A-97D7-4E1D-BA16-8B2E06DF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898A-728C-4E72-AD15-6B0E815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74B-7E8E-4AD8-A1CD-FC489E3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AE40-FDCD-424E-9FBA-0CE3D76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6D3-290C-4895-B0AA-903B003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652-D1A5-45A4-A62B-CE1975D2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FDC6-92B4-4140-8A6C-72F71731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7F64-9AD6-4A60-B049-176B7167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7F5-10FE-406A-B244-CB55862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E46-4A3A-4F1D-A594-EBFAA8FA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12D-8898-4DE1-999A-E13F063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1E1-E316-432F-9E19-A67FDCB5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96D-61E3-4A2D-AC13-8976FEE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5ED-A0EB-45BC-B860-362BE00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398-0DBD-4F50-BA1E-353314B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165-B706-4AC8-A783-484007FF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137-1512-4040-A0ED-E242D0E5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zapisujeme dvěma způsoby a tudíž používá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algebra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goniometr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1700280"/>
            <a:ext cx="795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 znázorňujeme jak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vektor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Gaussova rovin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rtogonální soustava souřadných os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komplexních čís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( R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688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veden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r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zopakuje známé číselné obory. Vysvětlí nutnost zavedení nového číselného oboru na konkrétním příkladu. Seznámí se základními druhy komplexních čísel, způsoby zápisu a znázorněním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né obory; Potřeba komplexních čísel; Imaginární jednotka; Zápis, znázornění a druhy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17440" y="4681440"/>
            <a:ext cx="4695840" cy="2017800"/>
            <a:chOff x="1117440" y="4681440"/>
            <a:chExt cx="4695840" cy="2017800"/>
          </a:xfrm>
        </p:grpSpPr>
        <p:sp>
          <p:nvSpPr>
            <p:cNvPr id="142" name=""/>
            <p:cNvSpPr/>
            <p:nvPr/>
          </p:nvSpPr>
          <p:spPr>
            <a:xfrm>
              <a:off x="1349280" y="4681440"/>
              <a:ext cx="4464000" cy="2017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744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19280" y="4765680"/>
            <a:ext cx="3168720" cy="1800360"/>
            <a:chOff x="1619280" y="4765680"/>
            <a:chExt cx="3168720" cy="1800360"/>
          </a:xfrm>
        </p:grpSpPr>
        <p:sp>
          <p:nvSpPr>
            <p:cNvPr id="145" name=""/>
            <p:cNvSpPr/>
            <p:nvPr/>
          </p:nvSpPr>
          <p:spPr>
            <a:xfrm>
              <a:off x="1619280" y="4765680"/>
              <a:ext cx="3168720" cy="180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9600" y="5558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4908600"/>
            <a:ext cx="2305080" cy="1295280"/>
            <a:chOff x="1763640" y="4908600"/>
            <a:chExt cx="2305080" cy="1295280"/>
          </a:xfrm>
        </p:grpSpPr>
        <p:sp>
          <p:nvSpPr>
            <p:cNvPr id="148" name=""/>
            <p:cNvSpPr/>
            <p:nvPr/>
          </p:nvSpPr>
          <p:spPr>
            <a:xfrm>
              <a:off x="1763640" y="4908600"/>
              <a:ext cx="2305080" cy="129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5340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 2; 3;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cel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 – 2; – 1; 0; 1; 2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zlomk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p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Z; q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: p/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i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konstanty, odmocnin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ál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 = (– ∞; +∞ 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24000" y="5052960"/>
            <a:ext cx="1079640" cy="792000"/>
            <a:chOff x="2124000" y="5052960"/>
            <a:chExt cx="1079640" cy="792000"/>
          </a:xfrm>
        </p:grpSpPr>
        <p:sp>
          <p:nvSpPr>
            <p:cNvPr id="153" name=""/>
            <p:cNvSpPr/>
            <p:nvPr/>
          </p:nvSpPr>
          <p:spPr>
            <a:xfrm>
              <a:off x="2124000" y="5052960"/>
              <a:ext cx="1079640" cy="792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720" y="5197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89000"/>
            <a:ext cx="8059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ývoj a přehled číselných oborů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61080" y="5197320"/>
            <a:ext cx="720720" cy="863640"/>
            <a:chOff x="4861080" y="5197320"/>
            <a:chExt cx="720720" cy="863640"/>
          </a:xfrm>
        </p:grpSpPr>
        <p:sp>
          <p:nvSpPr>
            <p:cNvPr id="157" name=""/>
            <p:cNvSpPr/>
            <p:nvPr/>
          </p:nvSpPr>
          <p:spPr>
            <a:xfrm>
              <a:off x="4861080" y="5197320"/>
              <a:ext cx="720720" cy="8636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8880" y="53416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15628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87700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I = 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7280" y="1197000"/>
            <a:ext cx="7772400" cy="944640"/>
            <a:chOff x="1187280" y="1197000"/>
            <a:chExt cx="7772400" cy="944640"/>
          </a:xfrm>
        </p:grpSpPr>
        <p:sp>
          <p:nvSpPr>
            <p:cNvPr id="164" name=""/>
            <p:cNvSpPr/>
            <p:nvPr/>
          </p:nvSpPr>
          <p:spPr>
            <a:xfrm>
              <a:off x="1187280" y="1341360"/>
              <a:ext cx="77724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Řešte rovnici: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067280" y="1197000"/>
                  <a:ext cx="3671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187280" y="2637000"/>
            <a:ext cx="795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á se o úplnou kvadratickou rovnic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učivo 1. ročníku), kterou můžeme řeši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em na součin pomocí Vietových vzorc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orcem pro kořeny s diskriminantem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Příklad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ietovy vzor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1268280"/>
            <a:ext cx="7700760" cy="5195520"/>
            <a:chOff x="1187280" y="1268280"/>
            <a:chExt cx="7700760" cy="5195520"/>
          </a:xfrm>
        </p:grpSpPr>
        <p:sp>
          <p:nvSpPr>
            <p:cNvPr id="170" name=""/>
            <p:cNvSpPr/>
            <p:nvPr/>
          </p:nvSpPr>
          <p:spPr>
            <a:xfrm>
              <a:off x="1187280" y="1268280"/>
              <a:ext cx="77007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buClr>
                  <a:srgbClr val="0099cc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V </a:t>
              </a:r>
              <a:r>
                <a:rPr b="0" i="1" lang="en-US" sz="32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normované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kvadratické rovnic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latí vztah mezi kořen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 a koeficient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in kořenů rovnice dává hodnotu absolutního člen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et kořenů rovnice dává opačnou hodnotu lineárního koeficient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836360" y="1953720"/>
                  <a:ext cx="30355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x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221080" y="4508280"/>
                  <a:ext cx="2063880" cy="65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24360" y="5803560"/>
                  <a:ext cx="2570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3419640" y="206064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06064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6760" y="260280"/>
            <a:ext cx="806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kořeny s diskriminante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125360"/>
            <a:ext cx="82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V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ecné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kvadratické rovnic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počteme hodnotu výrazu, který řídí počet kořenů rovnice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18360" y="1052640"/>
                <a:ext cx="2825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16720" y="2349360"/>
                <a:ext cx="221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3213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kladný,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44928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ůzné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é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365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2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nulový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589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3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záporný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nemá 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189000"/>
            <a:ext cx="7988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rátíme se k řešení zadané kvadratické rovnic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71280"/>
                <a:ext cx="3384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042920" y="692280"/>
            <a:ext cx="81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D = (– 10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– 4.1.29 = 100 – 116 =  – 16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vnice nemá v oboru reálných čísel řešen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ffff00"/>
                </a:solidFill>
                <a:uFillTx/>
                <a:latin typeface="Times New Roman"/>
              </a:rPr>
              <a:t>Hledáme jiný početní postup a nový číselný obor</a:t>
            </a:r>
            <a:r>
              <a:rPr b="1" i="1" lang="cs-CZ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dddddd"/>
                </a:solidFill>
                <a:latin typeface="Times New Roman"/>
              </a:rPr>
              <a:t>ve kterém bychom řešení nalezli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63700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jdeme z nejjednodušší rovnice tohoto typu (rovnice nemá v R řešení):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3068640"/>
                <a:ext cx="144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371808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pokládáme, že jejím kořenem je jisté číslo, které nazvem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maginární jednotkou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96360" y="4292640"/>
                <a:ext cx="720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116000" y="4726080"/>
            <a:ext cx="8028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latníme předpoklad a dosadím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36000" y="4797360"/>
                <a:ext cx="136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67640" y="5300640"/>
                <a:ext cx="114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577692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ravíme rovnici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9 = 0 do tvaru, který odpovídá tvaru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1 = 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227280" y="3573360"/>
            <a:ext cx="1584360" cy="71928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718080"/>
            <a:ext cx="1224000" cy="115092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5346720"/>
            <a:ext cx="1296720" cy="530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56000" y="260280"/>
                <a:ext cx="25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42920" y="835200"/>
                <a:ext cx="4135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14560" y="1411200"/>
                <a:ext cx="2284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35280" y="1987560"/>
                <a:ext cx="1575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01920" y="2635200"/>
                <a:ext cx="194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36840" y="3282840"/>
                <a:ext cx="2838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1560" y="3932280"/>
                <a:ext cx="120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940360" y="1484280"/>
                <a:ext cx="2654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6840" y="4579920"/>
                <a:ext cx="1728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52840" y="5227560"/>
                <a:ext cx="1481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5950080"/>
                <a:ext cx="44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z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187280" y="1987560"/>
            <a:ext cx="4418280" cy="244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32440" y="2349360"/>
                <a:ext cx="3211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094280" y="205884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43280" y="314172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635200"/>
            <a:ext cx="863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820000" y="2924280"/>
            <a:ext cx="0" cy="21744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2133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řešení ryze kvadratických rovnic v 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23601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m kvadratických rovnic, jejichž diskriminant je záporný, budou obdobné výrazy, které se nazývají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mplexní čísl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0:54Z</dcterms:modified>
  <cp:revision>294</cp:revision>
  <dc:subject/>
  <dc:title>KČ</dc:title>
</cp:coreProperties>
</file>